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2A8-ACDB-40A1-BF42-3FB297F7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8488-DACE-4276-B864-1CCE821D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60D-883E-4198-9207-5F387E8F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5BE8-AAB8-4984-8559-4344F899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4EE-D63C-4742-8E63-ECD998C3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67C4-AB59-47E9-9A17-CE061B0F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DB9-8CC0-48DF-8A72-FABF1D46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8BC-18F8-40B6-8857-DE9617B3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3E52-8AB4-426D-84D2-2106042A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4392-6B52-429E-9B56-68F8653E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D92-E424-4466-9BF1-534D1773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8986-BA3F-4F49-82F8-57943190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51E2-0BFB-4977-A87B-7620D1626E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988400" cy="30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ОКАЗАТЕЛИ ОЦЕНКИ РЕЗУЛЬТАТА: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АРИАНТЫ ФОРМУЛИРОВ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80114 Экономика и бухгалтерский учет (по отрасля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ументирование хозяйственных операций и ведение бухгалтерского учета имущества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ение бухгалтерского учета источников формирования имущества, выполнение работ по инвентаризации имущества и финансовых обязательств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ов с бюджетом и внебюджетными фонд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ление и использование бухгалтерской отчет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108360" y="1155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80114 Экономика и бухгалтерский учет (по отраслям)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Документирование хозяйственных операций и ведение бухгалтерского учета имущества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8000" y="1503360"/>
          <a:ext cx="8964720" cy="3367080"/>
        </p:xfrm>
        <a:graphic>
          <a:graphicData uri="http://schemas.openxmlformats.org/drawingml/2006/table">
            <a:tbl>
              <a:tblPr/>
              <a:tblGrid>
                <a:gridCol w="2376360"/>
                <a:gridCol w="3681360"/>
                <a:gridCol w="2907000"/>
              </a:tblGrid>
              <a:tr h="107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атывать первичные бухгалтерские докуме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отка первичных бухгалтерских документов в соответствии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нормативными документ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ная  оцен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ыполнения практического 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WordArt 41"/>
          <p:cNvSpPr txBox="1"/>
          <p:nvPr/>
        </p:nvSpPr>
        <p:spPr>
          <a:xfrm>
            <a:off x="5867280" y="2637000"/>
            <a:ext cx="25416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50"/>
          <p:cNvSpPr txBox="1"/>
          <p:nvPr/>
        </p:nvSpPr>
        <p:spPr>
          <a:xfrm>
            <a:off x="8028000" y="292428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108360" y="1155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80114 Экономика и бухгалтерский учет (по отраслям)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Документирование хозяйственных операций и ведение бухгалтерского учета имущества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8000" y="1503360"/>
          <a:ext cx="8964720" cy="4951440"/>
        </p:xfrm>
        <a:graphic>
          <a:graphicData uri="http://schemas.openxmlformats.org/drawingml/2006/table">
            <a:tbl>
              <a:tblPr/>
              <a:tblGrid>
                <a:gridCol w="2016000"/>
                <a:gridCol w="4041720"/>
                <a:gridCol w="2907000"/>
              </a:tblGrid>
              <a:tr h="107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атывать первичные бухгалтерские доку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емонстрация навыков правильного оформления первичной бухгалтерской документ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емонстрация знания правил исправления ошибок при оформлении первичной бухгалтерской документ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ответствие разработанных первичных бухгалтерских документов  требованиям нормативных докум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Экспертная оценка на практическом  экзаме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Экспертная оценка на практическом  экзаме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Экспертная оценка выполнения практической работ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WordArt 49"/>
          <p:cNvSpPr txBox="1"/>
          <p:nvPr/>
        </p:nvSpPr>
        <p:spPr>
          <a:xfrm>
            <a:off x="5580000" y="566100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WordArt 50"/>
          <p:cNvSpPr txBox="1"/>
          <p:nvPr/>
        </p:nvSpPr>
        <p:spPr>
          <a:xfrm>
            <a:off x="5003640" y="3357720"/>
            <a:ext cx="1027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WordArt 51"/>
          <p:cNvSpPr txBox="1"/>
          <p:nvPr/>
        </p:nvSpPr>
        <p:spPr>
          <a:xfrm>
            <a:off x="5076720" y="429264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WordArt 52"/>
          <p:cNvSpPr txBox="1"/>
          <p:nvPr/>
        </p:nvSpPr>
        <p:spPr>
          <a:xfrm>
            <a:off x="7740720" y="328464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53"/>
          <p:cNvSpPr txBox="1"/>
          <p:nvPr/>
        </p:nvSpPr>
        <p:spPr>
          <a:xfrm>
            <a:off x="7812000" y="465300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WordArt 54"/>
          <p:cNvSpPr txBox="1"/>
          <p:nvPr/>
        </p:nvSpPr>
        <p:spPr>
          <a:xfrm>
            <a:off x="8820000" y="566100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08360" y="1155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80114 Экономика и бухгалтерский учет (по отраслям)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Документирование хозяйственных операций и ведение бухгалтерского учета имущества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8000" y="1503360"/>
          <a:ext cx="8964720" cy="4903920"/>
        </p:xfrm>
        <a:graphic>
          <a:graphicData uri="http://schemas.openxmlformats.org/drawingml/2006/table">
            <a:tbl>
              <a:tblPr/>
              <a:tblGrid>
                <a:gridCol w="2376360"/>
                <a:gridCol w="3681360"/>
                <a:gridCol w="2907000"/>
              </a:tblGrid>
              <a:tr h="107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атывать первичные бухгалтерские докуме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роверять наличие в произвольных первичных бухгалтерских документах обязательных реквизит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ь формальную проверку документов, проверку по существу, арифметическую проверку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равлять ошибки в первичных бухгалтерских документ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та лабораторных и практических рабо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е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ной работ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 заполнению и обработке первичной документ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WordArt 50"/>
          <p:cNvSpPr txBox="1"/>
          <p:nvPr/>
        </p:nvSpPr>
        <p:spPr>
          <a:xfrm>
            <a:off x="5292720" y="422100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50"/>
          <p:cNvSpPr txBox="1"/>
          <p:nvPr/>
        </p:nvSpPr>
        <p:spPr>
          <a:xfrm>
            <a:off x="5219640" y="234936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41"/>
          <p:cNvSpPr txBox="1"/>
          <p:nvPr/>
        </p:nvSpPr>
        <p:spPr>
          <a:xfrm>
            <a:off x="8675640" y="551664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41"/>
          <p:cNvSpPr txBox="1"/>
          <p:nvPr/>
        </p:nvSpPr>
        <p:spPr>
          <a:xfrm>
            <a:off x="8604360" y="350028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WordArt 50"/>
          <p:cNvSpPr txBox="1"/>
          <p:nvPr/>
        </p:nvSpPr>
        <p:spPr>
          <a:xfrm>
            <a:off x="5076720" y="581040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108360" y="1155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80114 Экономика и бухгалтерский учет (по отраслям)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Документирование хозяйственных операций и ведение бухгалтерского учета имущества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8000" y="1503360"/>
          <a:ext cx="8964720" cy="4903920"/>
        </p:xfrm>
        <a:graphic>
          <a:graphicData uri="http://schemas.openxmlformats.org/drawingml/2006/table">
            <a:tbl>
              <a:tblPr/>
              <a:tblGrid>
                <a:gridCol w="2016000"/>
                <a:gridCol w="4041720"/>
                <a:gridCol w="2907000"/>
              </a:tblGrid>
              <a:tr h="107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атывать первичные бухгалтерские доку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ответствие обязательных реквизитов первичных бухгалтерских документах требованиям нормативных документов (ПБ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зъяснение ошибок в первичных бухгалтерских документах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оответствие с ПБ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ная оценка выполнения практического задания (решение ситуативной задачи) на практическом занятии и / или экзамене (зачет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WordArt 41"/>
          <p:cNvSpPr txBox="1"/>
          <p:nvPr/>
        </p:nvSpPr>
        <p:spPr>
          <a:xfrm>
            <a:off x="5580000" y="566100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WordArt 42"/>
          <p:cNvSpPr txBox="1"/>
          <p:nvPr/>
        </p:nvSpPr>
        <p:spPr>
          <a:xfrm>
            <a:off x="8604360" y="436572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WordArt 50"/>
          <p:cNvSpPr txBox="1"/>
          <p:nvPr/>
        </p:nvSpPr>
        <p:spPr>
          <a:xfrm>
            <a:off x="5003640" y="2421000"/>
            <a:ext cx="1027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08360" y="1155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80114 Экономика и бухгалтерский учет (по отраслям)</a:t>
            </a:r>
            <a:br>
              <a:rPr sz="4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М Проведение расчетов с бюджетом и внебюджетными фондам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8000" y="1503360"/>
          <a:ext cx="8964720" cy="4525920"/>
        </p:xfrm>
        <a:graphic>
          <a:graphicData uri="http://schemas.openxmlformats.org/drawingml/2006/table">
            <a:tbl>
              <a:tblPr/>
              <a:tblGrid>
                <a:gridCol w="2087640"/>
                <a:gridCol w="3970080"/>
                <a:gridCol w="2907000"/>
              </a:tblGrid>
              <a:tr h="108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ть бухгалтерские проводки по начислению и перечислению налогов и сборов в бюджеты различных уровне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 оформленных проводок законодательным актам в области налогообложения и бухгалтерского уч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ная оценка работодател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WordArt 18"/>
          <p:cNvSpPr txBox="1"/>
          <p:nvPr/>
        </p:nvSpPr>
        <p:spPr>
          <a:xfrm>
            <a:off x="5292720" y="321300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20"/>
          <p:cNvSpPr txBox="1"/>
          <p:nvPr/>
        </p:nvSpPr>
        <p:spPr>
          <a:xfrm>
            <a:off x="8604360" y="306864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108360" y="1155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80114 Экономика и бухгалтерский учет (по отраслям)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Составление и использование бухгалтерской отче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1503360"/>
          <a:ext cx="8964720" cy="5013360"/>
        </p:xfrm>
        <a:graphic>
          <a:graphicData uri="http://schemas.openxmlformats.org/drawingml/2006/table">
            <a:tbl>
              <a:tblPr/>
              <a:tblGrid>
                <a:gridCol w="2376360"/>
                <a:gridCol w="3681360"/>
                <a:gridCol w="2907000"/>
              </a:tblGrid>
              <a:tr h="108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жать нарастающим итогом на счетах бухгалтерского учета имущественное и финансовое положение организации, определять результаты хозяйственной деятельности за отчетный 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фактов хозяйственной деятельности на основании документов и перенос в учетные регистры с целью обобщения учетной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овый контро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WordArt 50"/>
          <p:cNvSpPr txBox="1"/>
          <p:nvPr/>
        </p:nvSpPr>
        <p:spPr>
          <a:xfrm>
            <a:off x="7885080" y="350028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WordArt 50"/>
          <p:cNvSpPr txBox="1"/>
          <p:nvPr/>
        </p:nvSpPr>
        <p:spPr>
          <a:xfrm>
            <a:off x="4572000" y="537372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108360" y="1155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80114 Экономика и бухгалтерский учет (по отраслям)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Составление и использование бухгалтерской отче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8000" y="1503360"/>
          <a:ext cx="8964720" cy="5013360"/>
        </p:xfrm>
        <a:graphic>
          <a:graphicData uri="http://schemas.openxmlformats.org/drawingml/2006/table">
            <a:tbl>
              <a:tblPr/>
              <a:tblGrid>
                <a:gridCol w="2376360"/>
                <a:gridCol w="3681360"/>
                <a:gridCol w="2907000"/>
              </a:tblGrid>
              <a:tr h="108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жать нарастающим итогом на счетах бухгалтерского учета имущественное и финансовое положение организации, определять результаты хозяйственной деятельности за отчетный 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своевременно выводить результаты хозяйственной  деятельности и отражать их в отче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задач с использованием нормативных актов, регулирующих  уч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WordArt 50"/>
          <p:cNvSpPr txBox="1"/>
          <p:nvPr/>
        </p:nvSpPr>
        <p:spPr>
          <a:xfrm>
            <a:off x="7740720" y="479736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WordArt 50"/>
          <p:cNvSpPr txBox="1"/>
          <p:nvPr/>
        </p:nvSpPr>
        <p:spPr>
          <a:xfrm>
            <a:off x="4932360" y="407664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108360" y="1155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80114 Экономика и бухгалтерский учет (по отраслям)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Составление и использование бухгалтерской отче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1503360"/>
          <a:ext cx="8964720" cy="5013360"/>
        </p:xfrm>
        <a:graphic>
          <a:graphicData uri="http://schemas.openxmlformats.org/drawingml/2006/table">
            <a:tbl>
              <a:tblPr/>
              <a:tblGrid>
                <a:gridCol w="2376360"/>
                <a:gridCol w="3681360"/>
                <a:gridCol w="2907000"/>
              </a:tblGrid>
              <a:tr h="108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жать нарастающим итогом на счетах бухгалтерского учета имущественное и финансовое положение организации, определять результаты хозяйственной деятельности за отчетный 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ущественное и финансовое положение организации отражено нарастающим итогом на счетах бухгалтерского учета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н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хозяйственной деятельности за отчетный период определены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н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ное оценивание выполнения задания на производственной практи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раб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WordArt 18"/>
          <p:cNvSpPr txBox="1"/>
          <p:nvPr/>
        </p:nvSpPr>
        <p:spPr>
          <a:xfrm>
            <a:off x="5219640" y="595008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WordArt 18"/>
          <p:cNvSpPr txBox="1"/>
          <p:nvPr/>
        </p:nvSpPr>
        <p:spPr>
          <a:xfrm>
            <a:off x="8172360" y="299736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WordArt 18"/>
          <p:cNvSpPr txBox="1"/>
          <p:nvPr/>
        </p:nvSpPr>
        <p:spPr>
          <a:xfrm>
            <a:off x="5435640" y="263700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WordArt 51"/>
          <p:cNvSpPr txBox="1"/>
          <p:nvPr/>
        </p:nvSpPr>
        <p:spPr>
          <a:xfrm>
            <a:off x="8604360" y="544500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108360" y="1155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80114 Экономика и бухгалтерский учет (по отраслям)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Составление и использование бухгалтерской отче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8000" y="1503360"/>
          <a:ext cx="8964720" cy="5013360"/>
        </p:xfrm>
        <a:graphic>
          <a:graphicData uri="http://schemas.openxmlformats.org/drawingml/2006/table">
            <a:tbl>
              <a:tblPr/>
              <a:tblGrid>
                <a:gridCol w="2376360"/>
                <a:gridCol w="3681360"/>
                <a:gridCol w="2907000"/>
              </a:tblGrid>
              <a:tr h="108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жать нарастающим итогом на счетах бухгалтерского учета имущественное и финансовое положение организации, определять результаты хозяйственной деятельности за отчетный 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сть и своевременность имущественного и финансового уч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та индивидуальной домашней работы, защита отчета по практи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WordArt 18"/>
          <p:cNvSpPr txBox="1"/>
          <p:nvPr/>
        </p:nvSpPr>
        <p:spPr>
          <a:xfrm>
            <a:off x="5357880" y="321480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51"/>
          <p:cNvSpPr txBox="1"/>
          <p:nvPr/>
        </p:nvSpPr>
        <p:spPr>
          <a:xfrm>
            <a:off x="8501040" y="414324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 ПОКАЗА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08000" y="2421000"/>
            <a:ext cx="2448000" cy="703800"/>
          </a:xfrm>
          <a:prstGeom prst="rect">
            <a:avLst/>
          </a:prstGeom>
          <a:solidFill>
            <a:srgbClr val="ffff99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КТА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900000" y="1197000"/>
            <a:ext cx="3672000" cy="947160"/>
          </a:xfrm>
          <a:prstGeom prst="rect">
            <a:avLst/>
          </a:prstGeom>
          <a:solidFill>
            <a:srgbClr val="ffff99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ТВЕТСТВИЕ ТРЕБОВАНИЯ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2916360" y="2421000"/>
            <a:ext cx="2449440" cy="703800"/>
          </a:xfrm>
          <a:prstGeom prst="rect">
            <a:avLst/>
          </a:prstGeom>
          <a:solidFill>
            <a:srgbClr val="ffff99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А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 flipH="1">
            <a:off x="1116000" y="2205000"/>
            <a:ext cx="719280" cy="21600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3203640" y="2203560"/>
            <a:ext cx="792000" cy="14580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5291280" y="1125360"/>
            <a:ext cx="3744720" cy="947160"/>
          </a:xfrm>
          <a:prstGeom prst="rect">
            <a:avLst/>
          </a:prstGeom>
          <a:solidFill>
            <a:srgbClr val="ffff99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Ы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6012000" y="2205000"/>
            <a:ext cx="3095640" cy="44830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чность и скор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тения чертеж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гументирован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имуществ торгового предло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снован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бора и оформления коммерческой рекламной информации для потреб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формационного поис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времен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казания неотложной доврачебной помощи при терминальных состоя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2771640" y="3213000"/>
            <a:ext cx="3095640" cy="3385800"/>
          </a:xfrm>
          <a:prstGeom prst="rect">
            <a:avLst/>
          </a:prstGeom>
          <a:solidFill>
            <a:srgbClr val="ccffcc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бований инструкций и правил охраны тру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 использовании офисной тех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ение всех форм банкетного обслужив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оответств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рофессиональными стандарт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служ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34920" y="3213000"/>
            <a:ext cx="2665440" cy="3385800"/>
          </a:xfrm>
          <a:prstGeom prst="rect">
            <a:avLst/>
          </a:prstGeom>
          <a:solidFill>
            <a:srgbClr val="ccffcc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ветст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формления  витри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нию  и правил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формления торговых предлож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ветст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бранных методов проведения маркетинговых исследований и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ям и задач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 flipH="1">
            <a:off x="2411280" y="765000"/>
            <a:ext cx="1873440" cy="36036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4356000" y="765000"/>
            <a:ext cx="1871640" cy="36036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80110 Банковское дело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М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дение расчетных опер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95280" y="1700280"/>
          <a:ext cx="8497800" cy="498168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187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9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ять расчетно-кассовое обслуживание клиен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точность расчетно-кассовых операц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корость проведения расчетно-кассовых операц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ккуратность проведения расчетно-кассовых операц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лнота проведения расчетно-кассовых операц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защита индивидуальных проект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рактическая рабо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лабораторная рабо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омашняя ра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WordArt 24"/>
          <p:cNvSpPr txBox="1"/>
          <p:nvPr/>
        </p:nvSpPr>
        <p:spPr>
          <a:xfrm>
            <a:off x="5148360" y="471492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25"/>
          <p:cNvSpPr txBox="1"/>
          <p:nvPr/>
        </p:nvSpPr>
        <p:spPr>
          <a:xfrm>
            <a:off x="7891560" y="335772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24"/>
          <p:cNvSpPr txBox="1"/>
          <p:nvPr/>
        </p:nvSpPr>
        <p:spPr>
          <a:xfrm>
            <a:off x="8043840" y="442908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WordArt 25"/>
          <p:cNvSpPr txBox="1"/>
          <p:nvPr/>
        </p:nvSpPr>
        <p:spPr>
          <a:xfrm>
            <a:off x="7913520" y="5157720"/>
            <a:ext cx="1027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25"/>
          <p:cNvSpPr txBox="1"/>
          <p:nvPr/>
        </p:nvSpPr>
        <p:spPr>
          <a:xfrm>
            <a:off x="7913520" y="6093000"/>
            <a:ext cx="1027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13372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Ненавязчивый серви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116 Парикмахерское искусство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Организация и выполнение технологических процессов парикмахерских у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1280" y="1413000"/>
          <a:ext cx="8964720" cy="4951440"/>
        </p:xfrm>
        <a:graphic>
          <a:graphicData uri="http://schemas.openxmlformats.org/drawingml/2006/table">
            <a:tbl>
              <a:tblPr/>
              <a:tblGrid>
                <a:gridCol w="2772000"/>
                <a:gridCol w="2736720"/>
                <a:gridCol w="3456000"/>
              </a:tblGrid>
              <a:tr h="187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ь санитарно-эпидемиологическую обработку контактной зоны при выполнении парикмахерских усл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готовить рабочие дез. растворы в соответствии с сан.-эпид. требова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дезинфекции инструментов и рабочего места в соответствии с требованиями СанП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илизация остриженных волос в соответствии с требованиями СанП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отка парикмахерского белья в соответствии с требованиями СанП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овый контроль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нтроль деятельности студентов на практическом занят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 деятельности студентов по алгоритму (тестовый контроль)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 деятельности студентов на практическом занят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WordArt 25"/>
          <p:cNvSpPr txBox="1"/>
          <p:nvPr/>
        </p:nvSpPr>
        <p:spPr>
          <a:xfrm>
            <a:off x="8050320" y="350028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50"/>
          <p:cNvSpPr txBox="1"/>
          <p:nvPr/>
        </p:nvSpPr>
        <p:spPr>
          <a:xfrm>
            <a:off x="5283360" y="335772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24"/>
          <p:cNvSpPr txBox="1"/>
          <p:nvPr/>
        </p:nvSpPr>
        <p:spPr>
          <a:xfrm>
            <a:off x="8028000" y="515772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116 Парикмахерское искусство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Организация и выполнение технологических процессов парикмахерских у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1280" y="1413000"/>
          <a:ext cx="8964720" cy="5092560"/>
        </p:xfrm>
        <a:graphic>
          <a:graphicData uri="http://schemas.openxmlformats.org/drawingml/2006/table">
            <a:tbl>
              <a:tblPr/>
              <a:tblGrid>
                <a:gridCol w="2484720"/>
                <a:gridCol w="3456000"/>
                <a:gridCol w="3024000"/>
              </a:tblGrid>
              <a:tr h="186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ть и согласовывать выбор парикмахерских услу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бор вида парикмахерской услуги в соответствии с состоянием кожи головы и волос кл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бор парикмахерских средства в соответствии с состоянием кожи головы и волос кл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гласование с клиентом определенной парикмахерской услу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ситуационных зад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ситуационных зад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ева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гра, контроль деятельности студентов на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ом занят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WordArt 24"/>
          <p:cNvSpPr txBox="1"/>
          <p:nvPr/>
        </p:nvSpPr>
        <p:spPr>
          <a:xfrm>
            <a:off x="5292720" y="415296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24"/>
          <p:cNvSpPr txBox="1"/>
          <p:nvPr/>
        </p:nvSpPr>
        <p:spPr>
          <a:xfrm>
            <a:off x="8172360" y="364500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50"/>
          <p:cNvSpPr txBox="1"/>
          <p:nvPr/>
        </p:nvSpPr>
        <p:spPr>
          <a:xfrm>
            <a:off x="8782200" y="587700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24"/>
          <p:cNvSpPr txBox="1"/>
          <p:nvPr/>
        </p:nvSpPr>
        <p:spPr>
          <a:xfrm>
            <a:off x="5364000" y="515772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24"/>
          <p:cNvSpPr txBox="1"/>
          <p:nvPr/>
        </p:nvSpPr>
        <p:spPr>
          <a:xfrm>
            <a:off x="5292720" y="602136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24"/>
          <p:cNvSpPr txBox="1"/>
          <p:nvPr/>
        </p:nvSpPr>
        <p:spPr>
          <a:xfrm>
            <a:off x="8244000" y="458136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280" y="269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801 Товароведение и экспертиза качества потребительских товаров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М Управление ассортиментом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1716120"/>
          <a:ext cx="9036000" cy="3726000"/>
        </p:xfrm>
        <a:graphic>
          <a:graphicData uri="http://schemas.openxmlformats.org/drawingml/2006/table">
            <a:tbl>
              <a:tblPr/>
              <a:tblGrid>
                <a:gridCol w="2976480"/>
                <a:gridCol w="3683160"/>
                <a:gridCol w="2376360"/>
              </a:tblGrid>
              <a:tr h="18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ять потребность в товара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ение методами выявления потребностей в товар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ное исследова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заче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WordArt 19"/>
          <p:cNvSpPr txBox="1"/>
          <p:nvPr/>
        </p:nvSpPr>
        <p:spPr>
          <a:xfrm>
            <a:off x="5651640" y="479736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WordArt 19"/>
          <p:cNvSpPr txBox="1"/>
          <p:nvPr/>
        </p:nvSpPr>
        <p:spPr>
          <a:xfrm>
            <a:off x="7740720" y="472428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0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280" y="269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801 Товароведение и экспертиза качества потребительских товаров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М Управление ассортиментом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716120"/>
          <a:ext cx="9036000" cy="4524480"/>
        </p:xfrm>
        <a:graphic>
          <a:graphicData uri="http://schemas.openxmlformats.org/drawingml/2006/table">
            <a:tbl>
              <a:tblPr/>
              <a:tblGrid>
                <a:gridCol w="2976480"/>
                <a:gridCol w="3683160"/>
                <a:gridCol w="2376360"/>
              </a:tblGrid>
              <a:tr h="187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ять потребность в товара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ивность  / точность / достоверность выявления потребности в товар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 за ходом деловой иг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WordArt 18"/>
          <p:cNvSpPr txBox="1"/>
          <p:nvPr/>
        </p:nvSpPr>
        <p:spPr>
          <a:xfrm>
            <a:off x="5724360" y="458136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18"/>
          <p:cNvSpPr txBox="1"/>
          <p:nvPr/>
        </p:nvSpPr>
        <p:spPr>
          <a:xfrm>
            <a:off x="8172360" y="501336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280" y="269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801 Товароведение и экспертиза качества потребительских товаров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М Проведение экспертизы и оценки качества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16120"/>
          <a:ext cx="9036000" cy="4951440"/>
        </p:xfrm>
        <a:graphic>
          <a:graphicData uri="http://schemas.openxmlformats.org/drawingml/2006/table">
            <a:tbl>
              <a:tblPr/>
              <a:tblGrid>
                <a:gridCol w="2976480"/>
                <a:gridCol w="3683160"/>
                <a:gridCol w="2376360"/>
              </a:tblGrid>
              <a:tr h="187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нтифицировать товары по ассортиментной принадлеж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сть определения соответствия наименования товара классификационной группировк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ежный контрол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WordArt 18"/>
          <p:cNvSpPr txBox="1"/>
          <p:nvPr/>
        </p:nvSpPr>
        <p:spPr>
          <a:xfrm>
            <a:off x="5724360" y="458136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WordArt 19"/>
          <p:cNvSpPr txBox="1"/>
          <p:nvPr/>
        </p:nvSpPr>
        <p:spPr>
          <a:xfrm>
            <a:off x="7740720" y="450864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0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280" y="269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801 Товароведение и экспертиза качества потребительских товаров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М Проведение экспертизы и оценки качества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1844640"/>
          <a:ext cx="9144000" cy="4232160"/>
        </p:xfrm>
        <a:graphic>
          <a:graphicData uri="http://schemas.openxmlformats.org/drawingml/2006/table">
            <a:tbl>
              <a:tblPr/>
              <a:tblGrid>
                <a:gridCol w="3011400"/>
                <a:gridCol w="3576600"/>
                <a:gridCol w="2556000"/>
              </a:tblGrid>
              <a:tr h="186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овывать и проводить оценку качества това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с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рганизации приёмки товаров по качест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сть определения градаций качества товар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е практического зада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WordArt 19"/>
          <p:cNvSpPr txBox="1"/>
          <p:nvPr/>
        </p:nvSpPr>
        <p:spPr>
          <a:xfrm>
            <a:off x="7740720" y="508464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WordArt 23"/>
          <p:cNvSpPr txBox="1"/>
          <p:nvPr/>
        </p:nvSpPr>
        <p:spPr>
          <a:xfrm>
            <a:off x="5796000" y="544500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WordArt 20"/>
          <p:cNvSpPr txBox="1"/>
          <p:nvPr/>
        </p:nvSpPr>
        <p:spPr>
          <a:xfrm>
            <a:off x="5508720" y="342900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280" y="269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801 Товароведение и экспертиза качества потребительских товаров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М Проведение экспертизы и оценки качества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0" y="1844640"/>
          <a:ext cx="9144000" cy="4586400"/>
        </p:xfrm>
        <a:graphic>
          <a:graphicData uri="http://schemas.openxmlformats.org/drawingml/2006/table">
            <a:tbl>
              <a:tblPr/>
              <a:tblGrid>
                <a:gridCol w="3011400"/>
                <a:gridCol w="3576600"/>
                <a:gridCol w="2556000"/>
              </a:tblGrid>
              <a:tr h="1873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2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ть задания эксперта более высокой квалификации при проведении товароведной экспертиз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ота подготовки нормативно-правовой базы   к проведению товароведной экспертизы и её документальному оформлени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та отчёта по практике по профилю специальност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WordArt 19"/>
          <p:cNvSpPr txBox="1"/>
          <p:nvPr/>
        </p:nvSpPr>
        <p:spPr>
          <a:xfrm>
            <a:off x="5508720" y="486900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25"/>
          <p:cNvSpPr txBox="1"/>
          <p:nvPr/>
        </p:nvSpPr>
        <p:spPr>
          <a:xfrm>
            <a:off x="7596360" y="566100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280" y="269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701 Коммерция (по отраслям)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М Организация и управление торгово-сбытовой деятель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0" y="1844640"/>
          <a:ext cx="9144000" cy="4708440"/>
        </p:xfrm>
        <a:graphic>
          <a:graphicData uri="http://schemas.openxmlformats.org/drawingml/2006/table">
            <a:tbl>
              <a:tblPr/>
              <a:tblGrid>
                <a:gridCol w="3011400"/>
                <a:gridCol w="3576600"/>
                <a:gridCol w="2556000"/>
              </a:tblGrid>
              <a:tr h="187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вовать в установлении контактов с деловыми партнерами, заключать договора и контролировать их выполнение, предъявлять претензии и сан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установление коммерческих связей (уч.практи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заключение коммерческих сделок (уч.практи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ставление договоров в соответствии с нормативными документами (практ.ра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пособность осуществлять контроль за выполнением договорных обязательств (уч.практи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грамотность составления претензий и санкций в соответствии с нормативными документам практ.раб.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ий контроль в форм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защита практическ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тесты по темам МД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 по производственной практике и по каждому из разделов П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WordArt 19"/>
          <p:cNvSpPr txBox="1"/>
          <p:nvPr/>
        </p:nvSpPr>
        <p:spPr>
          <a:xfrm>
            <a:off x="5850000" y="616572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WordArt 25"/>
          <p:cNvSpPr txBox="1"/>
          <p:nvPr/>
        </p:nvSpPr>
        <p:spPr>
          <a:xfrm>
            <a:off x="7885080" y="616572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В богатстве и в бедности,</a:t>
            </a:r>
            <a:br>
              <a:rPr sz="5400"/>
            </a:b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в горе и в радости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280" y="269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701 Коммерция (по отраслям)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М Организация и управление торгово-сбытовой деятель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557360"/>
          <a:ext cx="9144000" cy="5013360"/>
        </p:xfrm>
        <a:graphic>
          <a:graphicData uri="http://schemas.openxmlformats.org/drawingml/2006/table">
            <a:tbl>
              <a:tblPr/>
              <a:tblGrid>
                <a:gridCol w="2700360"/>
                <a:gridCol w="3887640"/>
                <a:gridCol w="2556000"/>
              </a:tblGrid>
              <a:tr h="187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вовать в установлении контактов с деловыми партнерами, заключать договора и контролировать их выполнение, предъявлять претензии и сан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сть выполнения поручений руководителя / специалиста более высокой квалификации по установлению контактов с деловыми партнерам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заключения договор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ъявление претензий и санкций по результатам контроля выполнения соблюдения договоров в установленной фор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 за деятельностью обучающегося на практик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овая игр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WordArt 24"/>
          <p:cNvSpPr txBox="1"/>
          <p:nvPr/>
        </p:nvSpPr>
        <p:spPr>
          <a:xfrm>
            <a:off x="5940360" y="328464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24"/>
          <p:cNvSpPr txBox="1"/>
          <p:nvPr/>
        </p:nvSpPr>
        <p:spPr>
          <a:xfrm>
            <a:off x="6012000" y="436572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WordArt 24"/>
          <p:cNvSpPr txBox="1"/>
          <p:nvPr/>
        </p:nvSpPr>
        <p:spPr>
          <a:xfrm>
            <a:off x="5940360" y="580536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WordArt 24"/>
          <p:cNvSpPr txBox="1"/>
          <p:nvPr/>
        </p:nvSpPr>
        <p:spPr>
          <a:xfrm>
            <a:off x="8101080" y="566100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0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«Физики», не «лирик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856720" cy="152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809 Механизация сельского хозяйства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ка сельскохозяйственных машин и механизмов к работе, комплектование сборочных един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0920" y="1700280"/>
          <a:ext cx="8748720" cy="4981680"/>
        </p:xfrm>
        <a:graphic>
          <a:graphicData uri="http://schemas.openxmlformats.org/drawingml/2006/table">
            <a:tbl>
              <a:tblPr/>
              <a:tblGrid>
                <a:gridCol w="2916000"/>
                <a:gridCol w="2916360"/>
                <a:gridCol w="2916360"/>
              </a:tblGrid>
              <a:tr h="187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9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ть регулировку узлов, систем и механизмов двигателя и приборов электрообору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Точность регулировки узлов, систем и механизмов двигателя и приборов электрооборудовани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следовательность выполнения технологических операций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оответствии 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нструкц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работ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 на учебную практи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WordArt 50"/>
          <p:cNvSpPr txBox="1"/>
          <p:nvPr/>
        </p:nvSpPr>
        <p:spPr>
          <a:xfrm>
            <a:off x="8556480" y="365760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24"/>
          <p:cNvSpPr txBox="1"/>
          <p:nvPr/>
        </p:nvSpPr>
        <p:spPr>
          <a:xfrm>
            <a:off x="2771640" y="307188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WordArt 24"/>
          <p:cNvSpPr txBox="1"/>
          <p:nvPr/>
        </p:nvSpPr>
        <p:spPr>
          <a:xfrm>
            <a:off x="5214960" y="528624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WordArt 50"/>
          <p:cNvSpPr txBox="1"/>
          <p:nvPr/>
        </p:nvSpPr>
        <p:spPr>
          <a:xfrm>
            <a:off x="8458200" y="4964040"/>
            <a:ext cx="25416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80403 Судовождение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правление и эксплуатация суд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197000"/>
          <a:ext cx="8929800" cy="5486400"/>
        </p:xfrm>
        <a:graphic>
          <a:graphicData uri="http://schemas.openxmlformats.org/drawingml/2006/table">
            <a:tbl>
              <a:tblPr/>
              <a:tblGrid>
                <a:gridCol w="2382840"/>
                <a:gridCol w="3954240"/>
                <a:gridCol w="259272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7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овать и осуществлять переход в точку назначения, определять местоположение судн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ие графика движения из точки отправления в точку назначения в соответствии с правилами пла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ение перехода в соответствии с графиком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кладывать путь судна с учетом всех необходимых поправок (…)  с точност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сть и грамотность оформления графической проклад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четное  определение места положения судна с точностью до 1 м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6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е определение места положения судна с точностью до 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 за выполнением задания на производственной практи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но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ценивание выполнения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WordArt 50"/>
          <p:cNvSpPr txBox="1"/>
          <p:nvPr/>
        </p:nvSpPr>
        <p:spPr>
          <a:xfrm>
            <a:off x="2301840" y="414972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WordArt 50"/>
          <p:cNvSpPr txBox="1"/>
          <p:nvPr/>
        </p:nvSpPr>
        <p:spPr>
          <a:xfrm>
            <a:off x="8604360" y="2857680"/>
            <a:ext cx="25380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WordArt 24"/>
          <p:cNvSpPr txBox="1"/>
          <p:nvPr/>
        </p:nvSpPr>
        <p:spPr>
          <a:xfrm>
            <a:off x="8244000" y="400536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WordArt 50"/>
          <p:cNvSpPr txBox="1"/>
          <p:nvPr/>
        </p:nvSpPr>
        <p:spPr>
          <a:xfrm>
            <a:off x="8604360" y="473076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WordArt 25"/>
          <p:cNvSpPr txBox="1"/>
          <p:nvPr/>
        </p:nvSpPr>
        <p:spPr>
          <a:xfrm>
            <a:off x="7812000" y="617076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0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10908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1022 Монтаж и техническая эксплуатация холодильно-компрессорных машин и установок (по отраслям)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ение процесса по монтажу, технической эксплуатации и обслуживанию холодильно-компрессорных машин и установок (по отрасля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08000" y="1557360"/>
          <a:ext cx="9036000" cy="5378400"/>
        </p:xfrm>
        <a:graphic>
          <a:graphicData uri="http://schemas.openxmlformats.org/drawingml/2006/table">
            <a:tbl>
              <a:tblPr/>
              <a:tblGrid>
                <a:gridCol w="2668680"/>
                <a:gridCol w="3841560"/>
                <a:gridCol w="2525760"/>
              </a:tblGrid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наруживать неисправную работу холодильного оборудования и принимать меры для устранения и предупреждения отказов и авар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точность и скорость чтения чертежей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ыполнение ремонта с применением новых технолог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ое практическое задание с постановкой проблемной ситу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WordArt 50"/>
          <p:cNvSpPr txBox="1"/>
          <p:nvPr/>
        </p:nvSpPr>
        <p:spPr>
          <a:xfrm>
            <a:off x="5500800" y="542916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WordArt 28"/>
          <p:cNvSpPr txBox="1"/>
          <p:nvPr/>
        </p:nvSpPr>
        <p:spPr>
          <a:xfrm>
            <a:off x="3000240" y="435780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WordArt 50"/>
          <p:cNvSpPr txBox="1"/>
          <p:nvPr/>
        </p:nvSpPr>
        <p:spPr>
          <a:xfrm>
            <a:off x="8459640" y="596412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0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856720" cy="152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0601 Техническое обслуживание и ремонт автомобильного транспорта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ическое обслуживание и ремонт автотранс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700280"/>
          <a:ext cx="8748720" cy="4890960"/>
        </p:xfrm>
        <a:graphic>
          <a:graphicData uri="http://schemas.openxmlformats.org/drawingml/2006/table">
            <a:tbl>
              <a:tblPr/>
              <a:tblGrid>
                <a:gridCol w="2916000"/>
                <a:gridCol w="2916360"/>
                <a:gridCol w="2916360"/>
              </a:tblGrid>
              <a:tr h="187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7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атывать технологические процессы ремонта узлов и дета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ать и осуществить  технологический процесс технического обслуживания и ремонта автотранспо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исание курсовой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WordArt 28"/>
          <p:cNvSpPr txBox="1"/>
          <p:nvPr/>
        </p:nvSpPr>
        <p:spPr>
          <a:xfrm>
            <a:off x="5143680" y="471492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50"/>
          <p:cNvSpPr txBox="1"/>
          <p:nvPr/>
        </p:nvSpPr>
        <p:spPr>
          <a:xfrm>
            <a:off x="7858080" y="435780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8567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1031 Монтаж и техническая эксплуатация промышленного оборудования (по отраслям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я и проведение монтажа и ремонта промышленного обору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79280" y="1700280"/>
          <a:ext cx="8748720" cy="4890960"/>
        </p:xfrm>
        <a:graphic>
          <a:graphicData uri="http://schemas.openxmlformats.org/drawingml/2006/table">
            <a:tbl>
              <a:tblPr/>
              <a:tblGrid>
                <a:gridCol w="2916360"/>
                <a:gridCol w="2916360"/>
                <a:gridCol w="2916000"/>
              </a:tblGrid>
              <a:tr h="187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7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оводить работами, связанными с применением грузоподъёмных механизмов, при монтаже и ремонте промышленного оборуд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грузоподъемных механизмов организована и проводится в соответствии с нормативами (ГОСТам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 за деятельностью обучающихся на практ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ой или производственн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WordArt 24"/>
          <p:cNvSpPr txBox="1"/>
          <p:nvPr/>
        </p:nvSpPr>
        <p:spPr>
          <a:xfrm>
            <a:off x="5148360" y="595008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24"/>
          <p:cNvSpPr txBox="1"/>
          <p:nvPr/>
        </p:nvSpPr>
        <p:spPr>
          <a:xfrm>
            <a:off x="8101080" y="494496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WordArt 50"/>
          <p:cNvSpPr txBox="1"/>
          <p:nvPr/>
        </p:nvSpPr>
        <p:spPr>
          <a:xfrm>
            <a:off x="8566200" y="562752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0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856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30113 Компьютерные системы и комплексы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ктирование цифровых устро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50920" y="1700280"/>
          <a:ext cx="8748720" cy="4951440"/>
        </p:xfrm>
        <a:graphic>
          <a:graphicData uri="http://schemas.openxmlformats.org/drawingml/2006/table">
            <a:tbl>
              <a:tblPr/>
              <a:tblGrid>
                <a:gridCol w="2916000"/>
                <a:gridCol w="2916360"/>
                <a:gridCol w="2916360"/>
              </a:tblGrid>
              <a:tr h="187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ть показатели надежности и качества проектируемых цифровых устрой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качества и надежности цифровых устрой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та курсового проек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WordArt 28"/>
          <p:cNvSpPr txBox="1"/>
          <p:nvPr/>
        </p:nvSpPr>
        <p:spPr>
          <a:xfrm>
            <a:off x="4859280" y="580536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WordArt 50"/>
          <p:cNvSpPr txBox="1"/>
          <p:nvPr/>
        </p:nvSpPr>
        <p:spPr>
          <a:xfrm>
            <a:off x="8028000" y="393372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0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856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30103.02 МАСТЕР ПО ОБРАБОТКЕ ЦИФРОВОЙ ИНФОРМАЦИИ</a:t>
            </a: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вод и обработка цифров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50920" y="1285920"/>
          <a:ext cx="8748720" cy="5378400"/>
        </p:xfrm>
        <a:graphic>
          <a:graphicData uri="http://schemas.openxmlformats.org/drawingml/2006/table">
            <a:tbl>
              <a:tblPr/>
              <a:tblGrid>
                <a:gridCol w="2916000"/>
                <a:gridCol w="2916360"/>
                <a:gridCol w="2916360"/>
              </a:tblGrid>
              <a:tr h="18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вертировать файлы с цифровой информацией в различные форма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 оптимального способа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вертирования файлов с цифровой информацией в различные форма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ивность конвертирования файлов с цифровой информацией в различные форм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ная оценка в рамках текущего контроля на практических занятия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ная оценка выполнения индивидуальных домашних зад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ная оценка в рамках текущего контроля в ходе проведения учебной и производственной практи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ная оценка в рамках зачетных мероприятий по модул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WordArt 50"/>
          <p:cNvSpPr txBox="1"/>
          <p:nvPr/>
        </p:nvSpPr>
        <p:spPr>
          <a:xfrm>
            <a:off x="8572680" y="371484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WordArt 24"/>
          <p:cNvSpPr txBox="1"/>
          <p:nvPr/>
        </p:nvSpPr>
        <p:spPr>
          <a:xfrm>
            <a:off x="5286240" y="400068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WordArt 24"/>
          <p:cNvSpPr txBox="1"/>
          <p:nvPr/>
        </p:nvSpPr>
        <p:spPr>
          <a:xfrm>
            <a:off x="5286240" y="566568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0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560" y="2349360"/>
            <a:ext cx="87138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Учить и лечить </a:t>
            </a:r>
            <a:br>
              <a:rPr sz="5400"/>
            </a:b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может кажд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401 Туризм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М Предоставление турагентских усл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5280" y="1700280"/>
          <a:ext cx="8497800" cy="452448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187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ять и анализировать запросы потребителя и возможности их реализ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 выбираемого туристского продукта запросам потреб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ное оценивание потребностей потребителя работодател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WordArt 24"/>
          <p:cNvSpPr txBox="1"/>
          <p:nvPr/>
        </p:nvSpPr>
        <p:spPr>
          <a:xfrm>
            <a:off x="5148360" y="494172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25"/>
          <p:cNvSpPr txBox="1"/>
          <p:nvPr/>
        </p:nvSpPr>
        <p:spPr>
          <a:xfrm>
            <a:off x="7524720" y="587700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50146 Преподавание в начальных классах</a:t>
            </a: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подавание по программам начального общего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95280" y="1700280"/>
          <a:ext cx="8497800" cy="465912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187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ть цели и задачи, планировать уро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грамотная формулировка цели и задач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урока соответствует заявленным целям и задача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практической работ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WordArt 24"/>
          <p:cNvSpPr txBox="1"/>
          <p:nvPr/>
        </p:nvSpPr>
        <p:spPr>
          <a:xfrm>
            <a:off x="5292720" y="486900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WordArt 24"/>
          <p:cNvSpPr txBox="1"/>
          <p:nvPr/>
        </p:nvSpPr>
        <p:spPr>
          <a:xfrm>
            <a:off x="7786800" y="478620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WordArt 29"/>
          <p:cNvSpPr txBox="1"/>
          <p:nvPr/>
        </p:nvSpPr>
        <p:spPr>
          <a:xfrm>
            <a:off x="5526000" y="371628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0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50146 Преподавание в начальных классах</a:t>
            </a: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подавание по программам начального общего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95280" y="1700280"/>
          <a:ext cx="8497800" cy="498168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187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9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ть цели и задачи, планировать уро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Цели и задачи урока определены  с учетом учебного предмета, особенностей возраста, класса и отдельных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Урок спланирован с учетом учебного предмета, особенностей возраста, класса и отдельных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ое письменное задание: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ие плана-конспекта урока по всем учебным дисциплинам начальной школы с учетом особенностей возраста, класса и отдельных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WordArt 24"/>
          <p:cNvSpPr txBox="1"/>
          <p:nvPr/>
        </p:nvSpPr>
        <p:spPr>
          <a:xfrm>
            <a:off x="5219640" y="458136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WordArt 24"/>
          <p:cNvSpPr txBox="1"/>
          <p:nvPr/>
        </p:nvSpPr>
        <p:spPr>
          <a:xfrm>
            <a:off x="5219640" y="595008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WordArt 29"/>
          <p:cNvSpPr txBox="1"/>
          <p:nvPr/>
        </p:nvSpPr>
        <p:spPr>
          <a:xfrm>
            <a:off x="8532720" y="422280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0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50144 Дошкольное образование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мероприятий, направленных на укрепление здоровья ребенка и его физическ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95280" y="1700280"/>
          <a:ext cx="8497800" cy="4890960"/>
        </p:xfrm>
        <a:graphic>
          <a:graphicData uri="http://schemas.openxmlformats.org/drawingml/2006/table">
            <a:tbl>
              <a:tblPr/>
              <a:tblGrid>
                <a:gridCol w="2832120"/>
                <a:gridCol w="3144960"/>
                <a:gridCol w="2520720"/>
              </a:tblGrid>
              <a:tr h="187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7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ь мероприятия по физическому воспитанию в процессе выполнения двигательного реж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 по физическому воспитанию в процессе выполнения двигательного режима проводятся в соответствии с требованиями програм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выполнения заданий прак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WordArt 24"/>
          <p:cNvSpPr txBox="1"/>
          <p:nvPr/>
        </p:nvSpPr>
        <p:spPr>
          <a:xfrm>
            <a:off x="5508720" y="365904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WordArt 29"/>
          <p:cNvSpPr txBox="1"/>
          <p:nvPr/>
        </p:nvSpPr>
        <p:spPr>
          <a:xfrm>
            <a:off x="8062920" y="364968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0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60501 Сестринское дело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Оказание доврачебной медицинской помощи при неотложных и экстремальных состоя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06200" y="1413000"/>
          <a:ext cx="8929800" cy="5502240"/>
        </p:xfrm>
        <a:graphic>
          <a:graphicData uri="http://schemas.openxmlformats.org/drawingml/2006/table">
            <a:tbl>
              <a:tblPr/>
              <a:tblGrid>
                <a:gridCol w="1785960"/>
                <a:gridCol w="4695840"/>
                <a:gridCol w="2448000"/>
              </a:tblGrid>
              <a:tr h="131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2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ывать доврачебную помощь при неотложных состояниях и травм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но диагностирова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ичины, стадии и клинические проявления терминальных состоя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ыва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декватную неотложную доврачебную помощь в соответствии с алгоритмами оказания мед. помощи при неотложных состояниях и физическим состоянием пациен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я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естринские манипуляции в соответствии со стандартами деятельности мед. сест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Решение ситуационных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Экспертное наблюдение в ходе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енно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акти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Экспертное наблюдение в ходе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енно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акти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WordArt 18"/>
          <p:cNvSpPr txBox="1"/>
          <p:nvPr/>
        </p:nvSpPr>
        <p:spPr>
          <a:xfrm>
            <a:off x="5697360" y="2259000"/>
            <a:ext cx="721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WordArt 49"/>
          <p:cNvSpPr txBox="1"/>
          <p:nvPr/>
        </p:nvSpPr>
        <p:spPr>
          <a:xfrm>
            <a:off x="8244000" y="256536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50"/>
          <p:cNvSpPr txBox="1"/>
          <p:nvPr/>
        </p:nvSpPr>
        <p:spPr>
          <a:xfrm>
            <a:off x="8529480" y="408456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51"/>
          <p:cNvSpPr txBox="1"/>
          <p:nvPr/>
        </p:nvSpPr>
        <p:spPr>
          <a:xfrm>
            <a:off x="8529480" y="563076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nodeType="clickEffect" fill="hold">
                      <p:stCondLst>
                        <p:cond delay="0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60501 Сестринское дело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Оказание доврачебной медицинской помощи при неотложных и экстремальных состоя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06200" y="1413000"/>
          <a:ext cx="8929800" cy="5499000"/>
        </p:xfrm>
        <a:graphic>
          <a:graphicData uri="http://schemas.openxmlformats.org/drawingml/2006/table">
            <a:tbl>
              <a:tblPr/>
              <a:tblGrid>
                <a:gridCol w="2305080"/>
                <a:gridCol w="4321440"/>
                <a:gridCol w="230328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вовать в оказании медицинской помощи при чрезвычайных ситуация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ова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 составе сортировочной бригады в соответствии с правилами ГО Ч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екватно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ыполнение своих обязанностей в работе лечебно-профилактического учреждения в условиях чрезвычайных ситуац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евая иг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WordArt 21"/>
          <p:cNvSpPr txBox="1"/>
          <p:nvPr/>
        </p:nvSpPr>
        <p:spPr>
          <a:xfrm>
            <a:off x="6300720" y="458136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WordArt 28"/>
          <p:cNvSpPr txBox="1"/>
          <p:nvPr/>
        </p:nvSpPr>
        <p:spPr>
          <a:xfrm>
            <a:off x="7740720" y="328464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WordArt 29"/>
          <p:cNvSpPr txBox="1"/>
          <p:nvPr/>
        </p:nvSpPr>
        <p:spPr>
          <a:xfrm>
            <a:off x="5867280" y="285264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60501 Сестринское дело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М Оказание доврачебной медицинской помощи при неотложных и экстремальных состоя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06200" y="1413000"/>
          <a:ext cx="8929800" cy="5167080"/>
        </p:xfrm>
        <a:graphic>
          <a:graphicData uri="http://schemas.openxmlformats.org/drawingml/2006/table">
            <a:tbl>
              <a:tblPr/>
              <a:tblGrid>
                <a:gridCol w="1944720"/>
                <a:gridCol w="4908600"/>
                <a:gridCol w="2076480"/>
              </a:tblGrid>
              <a:tr h="13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вовать в оказании медицинской помощи при чрезвычайных ситуаци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но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ифицирова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характеризовать Ч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ыва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декватную помощь при воздействии на организм токсических и ядовитых веществ самостоятельно и в брига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эффективные мероприятия по защите пациентов от негативных воздействий при Ч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ешение задач в тестовой фор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ешение ситуационных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WordArt 20"/>
          <p:cNvSpPr txBox="1"/>
          <p:nvPr/>
        </p:nvSpPr>
        <p:spPr>
          <a:xfrm>
            <a:off x="6588000" y="386064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WordArt 21"/>
          <p:cNvSpPr txBox="1"/>
          <p:nvPr/>
        </p:nvSpPr>
        <p:spPr>
          <a:xfrm>
            <a:off x="6588000" y="587700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WordArt 28"/>
          <p:cNvSpPr txBox="1"/>
          <p:nvPr/>
        </p:nvSpPr>
        <p:spPr>
          <a:xfrm>
            <a:off x="5867280" y="278136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29"/>
          <p:cNvSpPr txBox="1"/>
          <p:nvPr/>
        </p:nvSpPr>
        <p:spPr>
          <a:xfrm>
            <a:off x="8388360" y="2852640"/>
            <a:ext cx="254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WordArt 30"/>
          <p:cNvSpPr txBox="1"/>
          <p:nvPr/>
        </p:nvSpPr>
        <p:spPr>
          <a:xfrm>
            <a:off x="7885080" y="479736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0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401 Туризм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М Предоставление турагентских усл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4920" y="1557360"/>
          <a:ext cx="9144000" cy="5183280"/>
        </p:xfrm>
        <a:graphic>
          <a:graphicData uri="http://schemas.openxmlformats.org/drawingml/2006/table">
            <a:tbl>
              <a:tblPr/>
              <a:tblGrid>
                <a:gridCol w="2557440"/>
                <a:gridCol w="3886200"/>
                <a:gridCol w="2700360"/>
              </a:tblGrid>
              <a:tr h="17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ть работу по оказанию визовой поддержки потребител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потребителю полной и достоверной информаций о требованиях консульств зарубежных стран к пакету документов, предоставляемых для оформления ви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 по производственной практ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WordArt 19"/>
          <p:cNvSpPr txBox="1"/>
          <p:nvPr/>
        </p:nvSpPr>
        <p:spPr>
          <a:xfrm>
            <a:off x="5219640" y="422100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WordArt 35"/>
          <p:cNvSpPr txBox="1"/>
          <p:nvPr/>
        </p:nvSpPr>
        <p:spPr>
          <a:xfrm>
            <a:off x="7308720" y="486900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401 Туризм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М Предоставление турагентских усл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95280" y="1700280"/>
          <a:ext cx="8497800" cy="4610160"/>
        </p:xfrm>
        <a:graphic>
          <a:graphicData uri="http://schemas.openxmlformats.org/drawingml/2006/table">
            <a:tbl>
              <a:tblPr/>
              <a:tblGrid>
                <a:gridCol w="2521080"/>
                <a:gridCol w="3144600"/>
                <a:gridCol w="2832120"/>
              </a:tblGrid>
              <a:tr h="18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0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ормлять турпакет (турпутевки, ваучеры, страховые полис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ст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формления турпакета в соответствии с установленными требования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та практической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выполнения п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WordArt 18"/>
          <p:cNvSpPr txBox="1"/>
          <p:nvPr/>
        </p:nvSpPr>
        <p:spPr>
          <a:xfrm>
            <a:off x="5148360" y="414972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WordArt 22"/>
          <p:cNvSpPr txBox="1"/>
          <p:nvPr/>
        </p:nvSpPr>
        <p:spPr>
          <a:xfrm>
            <a:off x="8001000" y="571500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30912 Право и организация соцзащиты</a:t>
            </a:r>
            <a:br>
              <a:rPr sz="36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еспечение реализации прав граждан в сфере пенсионного обеспечения и социальной защ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1214280"/>
          <a:ext cx="9144000" cy="5565960"/>
        </p:xfrm>
        <a:graphic>
          <a:graphicData uri="http://schemas.openxmlformats.org/drawingml/2006/table">
            <a:tbl>
              <a:tblPr/>
              <a:tblGrid>
                <a:gridCol w="3011400"/>
                <a:gridCol w="3576600"/>
                <a:gridCol w="2556000"/>
              </a:tblGrid>
              <a:tr h="187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ять профессиональное толкование  нормативных правовых актов для реализации прав граждан в сфере пенсионного обеспечения и социальной защи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 algn="just"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сть выбора нормативных правовых актов в сфере пенсионного обеспечения и социальной защи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ение содержанием нормативно-правовой документации в сфере пенсионного обеспечения и социальной защи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сть и скорость чтения и трактовки нормативно-правовой докумен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работа «Нормативно-правовые акты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WordArt 19"/>
          <p:cNvSpPr txBox="1"/>
          <p:nvPr/>
        </p:nvSpPr>
        <p:spPr>
          <a:xfrm>
            <a:off x="2714760" y="242892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2428920" y="500076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19"/>
          <p:cNvSpPr txBox="1"/>
          <p:nvPr/>
        </p:nvSpPr>
        <p:spPr>
          <a:xfrm>
            <a:off x="2286000" y="6286680"/>
            <a:ext cx="1027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WordArt 19"/>
          <p:cNvSpPr txBox="1"/>
          <p:nvPr/>
        </p:nvSpPr>
        <p:spPr>
          <a:xfrm>
            <a:off x="8116920" y="457200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30912 Право и организация соцзащиты</a:t>
            </a:r>
            <a:br>
              <a:rPr sz="36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еспечение реализации прав граждан в сфере пенсионного обеспечения и социальной защ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8000" y="1214280"/>
          <a:ext cx="9036000" cy="5531040"/>
        </p:xfrm>
        <a:graphic>
          <a:graphicData uri="http://schemas.openxmlformats.org/drawingml/2006/table">
            <a:tbl>
              <a:tblPr/>
              <a:tblGrid>
                <a:gridCol w="2903400"/>
                <a:gridCol w="3576600"/>
                <a:gridCol w="2556000"/>
              </a:tblGrid>
              <a:tr h="187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(освоенные П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казатели оценки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методы контроля и оце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ять профессиональное толкование  нормативных правовых актов для реализации прав граждан в сфере пенсионного обеспечения и социальной защи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ност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аргументированность анализа действующего законодательства в сфере пенсионного обеспечения и социальной защит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лнота, доступность и правильность толкования  нормативных правовых актов для реализации прав граждан в сфере пенсионного обеспечения и социальной защиты насел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производственных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м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WordArt 19"/>
          <p:cNvSpPr txBox="1"/>
          <p:nvPr/>
        </p:nvSpPr>
        <p:spPr>
          <a:xfrm>
            <a:off x="7854840" y="4929120"/>
            <a:ext cx="102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23"/>
          <p:cNvSpPr txBox="1"/>
          <p:nvPr/>
        </p:nvSpPr>
        <p:spPr>
          <a:xfrm>
            <a:off x="4786200" y="2857680"/>
            <a:ext cx="72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WordArt 23"/>
          <p:cNvSpPr txBox="1"/>
          <p:nvPr/>
        </p:nvSpPr>
        <p:spPr>
          <a:xfrm>
            <a:off x="5929200" y="4643280"/>
            <a:ext cx="72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41"/>
          <p:cNvSpPr txBox="1"/>
          <p:nvPr/>
        </p:nvSpPr>
        <p:spPr>
          <a:xfrm>
            <a:off x="8628120" y="3794040"/>
            <a:ext cx="253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263700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Деньги любят сч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5:39:29Z</dcterms:created>
  <dc:creator>Куцына Елена Ивановна</dc:creator>
  <dc:description/>
  <dc:language>en-US</dc:language>
  <cp:lastModifiedBy>Пользователь</cp:lastModifiedBy>
  <dcterms:modified xsi:type="dcterms:W3CDTF">2013-11-27T05:17:12Z</dcterms:modified>
  <cp:revision>43</cp:revision>
  <dc:subject/>
  <dc:title>Обсуждение формулировок раздела  5</dc:title>
</cp:coreProperties>
</file>