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B3B-E9A0-48A2-B917-C26AC2EA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4B7-A09C-46CD-8699-974CADD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B60-570A-469B-8834-3DAEBEF9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0F5-37DF-4AEB-A571-C722AC60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2A6-A901-49E0-83D6-660F0C91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960-0F94-467B-9FDC-6F69F7A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941-6192-40E9-BF77-FC7A6EE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F4B-4175-4B8D-A1D4-52B0B9E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6EC-9D97-4BFB-B54B-ED764406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CD-8991-4FB1-86F8-693D1B9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C12-94CF-4FA0-808A-FF9A771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A22-3F6B-447E-98AB-70B745A8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772-35AB-4309-AADD-2E209645C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9884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КАЗАТЕЛИ ОЦЕНКИ РЕЗУЛЬТАТА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АРИАНТЫ ФОРМУЛИРО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ирование хозяйственных операций и ведение бухгалтерского учета имущества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ение бухгалтерского учета источников формирования имущества, выполнение работ по инвентаризации имущества и финансовых обязательств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ов с бюджетом и внебюджетными фон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и использование бухгалтерской отче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8000" y="1503360"/>
          <a:ext cx="8964720" cy="336708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первичных бухгалтерских документов в соответстви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ормативными документ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 оцен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ыполнения практическо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WordArt 41"/>
          <p:cNvSpPr txBox="1"/>
          <p:nvPr/>
        </p:nvSpPr>
        <p:spPr>
          <a:xfrm>
            <a:off x="5867280" y="2637000"/>
            <a:ext cx="25416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0"/>
          <p:cNvSpPr txBox="1"/>
          <p:nvPr/>
        </p:nvSpPr>
        <p:spPr>
          <a:xfrm>
            <a:off x="8028000" y="292428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8000" y="1503360"/>
          <a:ext cx="8964720" cy="4951440"/>
        </p:xfrm>
        <a:graphic>
          <a:graphicData uri="http://schemas.openxmlformats.org/drawingml/2006/table">
            <a:tbl>
              <a:tblPr/>
              <a:tblGrid>
                <a:gridCol w="2016000"/>
                <a:gridCol w="4041720"/>
                <a:gridCol w="2907000"/>
              </a:tblGrid>
              <a:tr h="107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емонстрация навыков правильного оформления первичной бухгалтерск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емонстрация знания правил исправления ошибок при оформлении первичной бухгалтерск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ответствие разработанных первичных бухгалтерских документов  требованиям нормативных доку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пертная оценка на практическом  экза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пертная оценка на практическом  экза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пертная оценка выполнения практической рабо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WordArt 49"/>
          <p:cNvSpPr txBox="1"/>
          <p:nvPr/>
        </p:nvSpPr>
        <p:spPr>
          <a:xfrm>
            <a:off x="5580000" y="5661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5003640" y="3357720"/>
            <a:ext cx="102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5076720" y="4292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7740720" y="3284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7812000" y="4653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8820000" y="5661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8000" y="1503360"/>
          <a:ext cx="8964720" cy="490392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верять наличие в произвольных первичных бухгалтерских документах обязательных реквизит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формальную проверку документов, проверку по существу, арифметическую проверк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равлять ошибки в первичных бухгалтерских доку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лабораторных и практических раб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ной рабо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заполнению и обработке первичной докумен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WordArt 50"/>
          <p:cNvSpPr txBox="1"/>
          <p:nvPr/>
        </p:nvSpPr>
        <p:spPr>
          <a:xfrm>
            <a:off x="5292720" y="4221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0"/>
          <p:cNvSpPr txBox="1"/>
          <p:nvPr/>
        </p:nvSpPr>
        <p:spPr>
          <a:xfrm>
            <a:off x="5219640" y="2349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41"/>
          <p:cNvSpPr txBox="1"/>
          <p:nvPr/>
        </p:nvSpPr>
        <p:spPr>
          <a:xfrm>
            <a:off x="8675640" y="5516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41"/>
          <p:cNvSpPr txBox="1"/>
          <p:nvPr/>
        </p:nvSpPr>
        <p:spPr>
          <a:xfrm>
            <a:off x="8604360" y="350028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50"/>
          <p:cNvSpPr txBox="1"/>
          <p:nvPr/>
        </p:nvSpPr>
        <p:spPr>
          <a:xfrm>
            <a:off x="5076720" y="58104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1503360"/>
          <a:ext cx="8964720" cy="4903920"/>
        </p:xfrm>
        <a:graphic>
          <a:graphicData uri="http://schemas.openxmlformats.org/drawingml/2006/table">
            <a:tbl>
              <a:tblPr/>
              <a:tblGrid>
                <a:gridCol w="2016000"/>
                <a:gridCol w="4041720"/>
                <a:gridCol w="2907000"/>
              </a:tblGrid>
              <a:tr h="10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ответствие обязательных реквизитов первичных бухгалтерских документах требованиям нормативных документов (ПБ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ъяснение ошибок в первичных бухгалтерских документах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е с ПБ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ыполнения практического задания (решение ситуативной задачи) на практическом занятии и / или экзамене (зачет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WordArt 41"/>
          <p:cNvSpPr txBox="1"/>
          <p:nvPr/>
        </p:nvSpPr>
        <p:spPr>
          <a:xfrm>
            <a:off x="5580000" y="5661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42"/>
          <p:cNvSpPr txBox="1"/>
          <p:nvPr/>
        </p:nvSpPr>
        <p:spPr>
          <a:xfrm>
            <a:off x="8604360" y="436572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50"/>
          <p:cNvSpPr txBox="1"/>
          <p:nvPr/>
        </p:nvSpPr>
        <p:spPr>
          <a:xfrm>
            <a:off x="5003640" y="2421000"/>
            <a:ext cx="102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М Проведение расчетов с бюджетом и внебюджетными фонд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503360"/>
          <a:ext cx="8964720" cy="4525920"/>
        </p:xfrm>
        <a:graphic>
          <a:graphicData uri="http://schemas.openxmlformats.org/drawingml/2006/table">
            <a:tbl>
              <a:tblPr/>
              <a:tblGrid>
                <a:gridCol w="2087640"/>
                <a:gridCol w="397008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ть бухгалтерские проводки по начислению и перечислению налогов и сборов в бюджеты различных уровн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оформленных проводок законодательным актам в области налогообложения и бухгалтерского у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работода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WordArt 18"/>
          <p:cNvSpPr txBox="1"/>
          <p:nvPr/>
        </p:nvSpPr>
        <p:spPr>
          <a:xfrm>
            <a:off x="5292720" y="3213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20"/>
          <p:cNvSpPr txBox="1"/>
          <p:nvPr/>
        </p:nvSpPr>
        <p:spPr>
          <a:xfrm>
            <a:off x="8604360" y="306864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фактов хозяйственной деятельности на основании документов и перенос в учетные регистры с целью обобщения учетн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овый контр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WordArt 50"/>
          <p:cNvSpPr txBox="1"/>
          <p:nvPr/>
        </p:nvSpPr>
        <p:spPr>
          <a:xfrm>
            <a:off x="7885080" y="350028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50"/>
          <p:cNvSpPr txBox="1"/>
          <p:nvPr/>
        </p:nvSpPr>
        <p:spPr>
          <a:xfrm>
            <a:off x="4572000" y="53737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своевременно выводить результаты хозяйственной  деятельности и отражать их в отче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 с использованием нормативных актов, регулирующих  уч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WordArt 50"/>
          <p:cNvSpPr txBox="1"/>
          <p:nvPr/>
        </p:nvSpPr>
        <p:spPr>
          <a:xfrm>
            <a:off x="7740720" y="4797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0"/>
          <p:cNvSpPr txBox="1"/>
          <p:nvPr/>
        </p:nvSpPr>
        <p:spPr>
          <a:xfrm>
            <a:off x="4932360" y="407664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ущественное и финансовое положение организации отражено нарастающим итогом на счетах бухгалтерского учет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хозяйственной деятельности за отчетный период определены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ое оценивание выполнения задания на производственной практи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WordArt 18"/>
          <p:cNvSpPr txBox="1"/>
          <p:nvPr/>
        </p:nvSpPr>
        <p:spPr>
          <a:xfrm>
            <a:off x="5219640" y="59500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18"/>
          <p:cNvSpPr txBox="1"/>
          <p:nvPr/>
        </p:nvSpPr>
        <p:spPr>
          <a:xfrm>
            <a:off x="8172360" y="29973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18"/>
          <p:cNvSpPr txBox="1"/>
          <p:nvPr/>
        </p:nvSpPr>
        <p:spPr>
          <a:xfrm>
            <a:off x="5435640" y="26370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51"/>
          <p:cNvSpPr txBox="1"/>
          <p:nvPr/>
        </p:nvSpPr>
        <p:spPr>
          <a:xfrm>
            <a:off x="8604360" y="544500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и своевременность имущественного и финансового уч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индивидуальной домашней работы, защита отчета по практи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WordArt 18"/>
          <p:cNvSpPr txBox="1"/>
          <p:nvPr/>
        </p:nvSpPr>
        <p:spPr>
          <a:xfrm>
            <a:off x="5357880" y="32148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51"/>
          <p:cNvSpPr txBox="1"/>
          <p:nvPr/>
        </p:nvSpPr>
        <p:spPr>
          <a:xfrm>
            <a:off x="8501040" y="41432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ПОКАЗ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8000" y="2421000"/>
            <a:ext cx="244800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900000" y="1197000"/>
            <a:ext cx="3672000" cy="94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ИЕ ТРЕБОВАНИЯ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916360" y="2421000"/>
            <a:ext cx="244944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>
            <a:off x="1116000" y="2205000"/>
            <a:ext cx="719280" cy="2160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03640" y="2203560"/>
            <a:ext cx="792000" cy="1458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5291280" y="1125360"/>
            <a:ext cx="3744720" cy="94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012000" y="2205000"/>
            <a:ext cx="3095640" cy="44830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сть и скор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ения чертеж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имуществ торгового пред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бора и оформления коммерческой рекламной информации для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онного по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врем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казания неотложной доврачебной помощи при терминальных состоя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771640" y="3213000"/>
            <a:ext cx="3095640" cy="33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й инструкций и правил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использовании офис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всех форм банкетного обслужи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ответств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рофессиональными стандар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слу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4920" y="3213000"/>
            <a:ext cx="2665440" cy="33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ения  витри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ю  и правил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ения торговых предло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ранных методов проведения маркетинговых исследований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ям и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2411280" y="765000"/>
            <a:ext cx="1873440" cy="360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4356000" y="765000"/>
            <a:ext cx="1871640" cy="360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80110 Банковское дело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дение расчетных 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700280"/>
          <a:ext cx="8497800" cy="498168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расчетно-кассовое обслуживание клиен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очность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корость проведения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куратность проведения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нота проведения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щита индивидуальных проект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актическая раб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абораторная раб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омашня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WordArt 24"/>
          <p:cNvSpPr txBox="1"/>
          <p:nvPr/>
        </p:nvSpPr>
        <p:spPr>
          <a:xfrm>
            <a:off x="5148360" y="471492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25"/>
          <p:cNvSpPr txBox="1"/>
          <p:nvPr/>
        </p:nvSpPr>
        <p:spPr>
          <a:xfrm>
            <a:off x="7891560" y="33577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24"/>
          <p:cNvSpPr txBox="1"/>
          <p:nvPr/>
        </p:nvSpPr>
        <p:spPr>
          <a:xfrm>
            <a:off x="8043840" y="442908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25"/>
          <p:cNvSpPr txBox="1"/>
          <p:nvPr/>
        </p:nvSpPr>
        <p:spPr>
          <a:xfrm>
            <a:off x="7913520" y="5157720"/>
            <a:ext cx="102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7913520" y="6093000"/>
            <a:ext cx="102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Ненавязчивый серв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116 Парикмахерское искусств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рганизация и выполнение технологических процессов парикмахерски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1280" y="1413000"/>
          <a:ext cx="8964720" cy="4951440"/>
        </p:xfrm>
        <a:graphic>
          <a:graphicData uri="http://schemas.openxmlformats.org/drawingml/2006/table">
            <a:tbl>
              <a:tblPr/>
              <a:tblGrid>
                <a:gridCol w="2772000"/>
                <a:gridCol w="2736720"/>
                <a:gridCol w="345600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санитарно-эпидемиологическую обработку контактной зоны при выполнении парикмахерских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готовить рабочие дез. растворы в соответствии с сан.-эпид. требо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дезинфекции инструментов и рабочего места в соответствии с требованиями Сан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илизация остриженных волос в соответствии с требованиями Сан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парикмахерского белья в соответствии с требованиями Сан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овый контроль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нтроль деятельности студентов на практическом заня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деятельности студентов по алгоритму (тестовый контроль)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деятельности студентов на практическом заня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WordArt 25"/>
          <p:cNvSpPr txBox="1"/>
          <p:nvPr/>
        </p:nvSpPr>
        <p:spPr>
          <a:xfrm>
            <a:off x="8050320" y="350028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50"/>
          <p:cNvSpPr txBox="1"/>
          <p:nvPr/>
        </p:nvSpPr>
        <p:spPr>
          <a:xfrm>
            <a:off x="5283360" y="335772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4"/>
          <p:cNvSpPr txBox="1"/>
          <p:nvPr/>
        </p:nvSpPr>
        <p:spPr>
          <a:xfrm>
            <a:off x="8028000" y="5157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116 Парикмахерское искусств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рганизация и выполнение технологических процессов парикмахерски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1280" y="1413000"/>
          <a:ext cx="8964720" cy="5092560"/>
        </p:xfrm>
        <a:graphic>
          <a:graphicData uri="http://schemas.openxmlformats.org/drawingml/2006/table">
            <a:tbl>
              <a:tblPr/>
              <a:tblGrid>
                <a:gridCol w="2484720"/>
                <a:gridCol w="3456000"/>
                <a:gridCol w="3024000"/>
              </a:tblGrid>
              <a:tr h="186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и согласовывать выбор парикмахерских усл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вида парикмахерской услуги в соответствии с состоянием кожи головы и волос кл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парикмахерских средства в соответствии с состоянием кожи головы и волос кл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ование с клиентом определенной парикмахерской 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ситуацион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ситуацион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гра, контроль деятельности студентов на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ом заня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WordArt 24"/>
          <p:cNvSpPr txBox="1"/>
          <p:nvPr/>
        </p:nvSpPr>
        <p:spPr>
          <a:xfrm>
            <a:off x="5292720" y="41529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24"/>
          <p:cNvSpPr txBox="1"/>
          <p:nvPr/>
        </p:nvSpPr>
        <p:spPr>
          <a:xfrm>
            <a:off x="8172360" y="36450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50"/>
          <p:cNvSpPr txBox="1"/>
          <p:nvPr/>
        </p:nvSpPr>
        <p:spPr>
          <a:xfrm>
            <a:off x="8782200" y="587700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24"/>
          <p:cNvSpPr txBox="1"/>
          <p:nvPr/>
        </p:nvSpPr>
        <p:spPr>
          <a:xfrm>
            <a:off x="5364000" y="5157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24"/>
          <p:cNvSpPr txBox="1"/>
          <p:nvPr/>
        </p:nvSpPr>
        <p:spPr>
          <a:xfrm>
            <a:off x="5292720" y="602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24"/>
          <p:cNvSpPr txBox="1"/>
          <p:nvPr/>
        </p:nvSpPr>
        <p:spPr>
          <a:xfrm>
            <a:off x="824400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М Управление ассортиментом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716120"/>
          <a:ext cx="9036000" cy="3726000"/>
        </p:xfrm>
        <a:graphic>
          <a:graphicData uri="http://schemas.openxmlformats.org/drawingml/2006/table">
            <a:tbl>
              <a:tblPr/>
              <a:tblGrid>
                <a:gridCol w="2976480"/>
                <a:gridCol w="3683160"/>
                <a:gridCol w="237636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ть потребность в товар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методами выявления потребностей в това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ое исследова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зач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WordArt 19"/>
          <p:cNvSpPr txBox="1"/>
          <p:nvPr/>
        </p:nvSpPr>
        <p:spPr>
          <a:xfrm>
            <a:off x="5651640" y="4797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19"/>
          <p:cNvSpPr txBox="1"/>
          <p:nvPr/>
        </p:nvSpPr>
        <p:spPr>
          <a:xfrm>
            <a:off x="7740720" y="472428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М Управление ассортиментом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16120"/>
          <a:ext cx="9036000" cy="4524480"/>
        </p:xfrm>
        <a:graphic>
          <a:graphicData uri="http://schemas.openxmlformats.org/drawingml/2006/table">
            <a:tbl>
              <a:tblPr/>
              <a:tblGrid>
                <a:gridCol w="2976480"/>
                <a:gridCol w="3683160"/>
                <a:gridCol w="237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ть потребность в товар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ость  / точность / достоверность выявления потребности в това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ходом деловой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WordArt 18"/>
          <p:cNvSpPr txBox="1"/>
          <p:nvPr/>
        </p:nvSpPr>
        <p:spPr>
          <a:xfrm>
            <a:off x="572436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8"/>
          <p:cNvSpPr txBox="1"/>
          <p:nvPr/>
        </p:nvSpPr>
        <p:spPr>
          <a:xfrm>
            <a:off x="8172360" y="50133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Проведение экспертизы и оценки качеств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16120"/>
          <a:ext cx="9036000" cy="4951440"/>
        </p:xfrm>
        <a:graphic>
          <a:graphicData uri="http://schemas.openxmlformats.org/drawingml/2006/table">
            <a:tbl>
              <a:tblPr/>
              <a:tblGrid>
                <a:gridCol w="2976480"/>
                <a:gridCol w="3683160"/>
                <a:gridCol w="237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цировать товары по ассортиментной принадле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определения соответствия наименования товара классификационной группиров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ежный контро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WordArt 18"/>
          <p:cNvSpPr txBox="1"/>
          <p:nvPr/>
        </p:nvSpPr>
        <p:spPr>
          <a:xfrm>
            <a:off x="572436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9"/>
          <p:cNvSpPr txBox="1"/>
          <p:nvPr/>
        </p:nvSpPr>
        <p:spPr>
          <a:xfrm>
            <a:off x="7740720" y="4508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Проведение экспертизы и оценки качеств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844640"/>
          <a:ext cx="9144000" cy="423216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6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ывать и проводить оценку качества това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рганизации приёмки товаров по каче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определения градаций качества товар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практического зад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WordArt 19"/>
          <p:cNvSpPr txBox="1"/>
          <p:nvPr/>
        </p:nvSpPr>
        <p:spPr>
          <a:xfrm>
            <a:off x="7740720" y="508464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5796000" y="5445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WordArt 20"/>
          <p:cNvSpPr txBox="1"/>
          <p:nvPr/>
        </p:nvSpPr>
        <p:spPr>
          <a:xfrm>
            <a:off x="5508720" y="342900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Проведение экспертизы и оценки качеств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844640"/>
          <a:ext cx="9144000" cy="458640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7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задания эксперта более высокой квалификации при проведении товароведной экспертиз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та подготовки нормативно-правовой базы   к проведению товароведной экспертизы и её документальному оформлени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отчёта по практике по профилю специаль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WordArt 19"/>
          <p:cNvSpPr txBox="1"/>
          <p:nvPr/>
        </p:nvSpPr>
        <p:spPr>
          <a:xfrm>
            <a:off x="5508720" y="4869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25"/>
          <p:cNvSpPr txBox="1"/>
          <p:nvPr/>
        </p:nvSpPr>
        <p:spPr>
          <a:xfrm>
            <a:off x="7596360" y="5661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701 Коммерция (по отраслям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Организация и управление торгово-сбытов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844640"/>
          <a:ext cx="9144000" cy="470844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установлении контактов с деловыми партнерами, заключать договора и контролировать их выполнение, предъявлять претензии и са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становление коммерческих связей (уч.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ключение коммерческих сделок (уч.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ставление договоров в соответствии с нормативными документами (практ.ра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пособность осуществлять контроль за выполнением договорных обязательств (уч.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рамотность составления претензий и санкций в соответствии с нормативными документам практ.раб.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ий контроль в форм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щита практическ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есты по темам МД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по производственной практике и по каждому из разделов П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WordArt 19"/>
          <p:cNvSpPr txBox="1"/>
          <p:nvPr/>
        </p:nvSpPr>
        <p:spPr>
          <a:xfrm>
            <a:off x="5850000" y="616572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7885080" y="616572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 богатстве и в бедности,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 горе и в радост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701 Коммерция (по отраслям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Организация и управление торгово-сбытов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557360"/>
          <a:ext cx="9144000" cy="5013360"/>
        </p:xfrm>
        <a:graphic>
          <a:graphicData uri="http://schemas.openxmlformats.org/drawingml/2006/table">
            <a:tbl>
              <a:tblPr/>
              <a:tblGrid>
                <a:gridCol w="2700360"/>
                <a:gridCol w="3887640"/>
                <a:gridCol w="255600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установлении контактов с деловыми партнерами, заключать договора и контролировать их выполнение, предъявлять претензии и са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выполнения поручений руководителя / специалиста более высокой квалификации по установлению контактов с деловыми партнера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ключения договор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ление претензий и санкций по результатам контроля выполнения соблюдения договоров в установлен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деятельностью обучающегося на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ая игр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WordArt 24"/>
          <p:cNvSpPr txBox="1"/>
          <p:nvPr/>
        </p:nvSpPr>
        <p:spPr>
          <a:xfrm>
            <a:off x="5940360" y="328464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24"/>
          <p:cNvSpPr txBox="1"/>
          <p:nvPr/>
        </p:nvSpPr>
        <p:spPr>
          <a:xfrm>
            <a:off x="6012000" y="436572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5940360" y="5805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24"/>
          <p:cNvSpPr txBox="1"/>
          <p:nvPr/>
        </p:nvSpPr>
        <p:spPr>
          <a:xfrm>
            <a:off x="8101080" y="5661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«Физики», не «лир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809 Механизация сельского хозяйства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сельскохозяйственных машин и механизмов к работе, комплектование сборочных еди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700280"/>
          <a:ext cx="8748720" cy="498168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регулировку узлов, систем и механизмов двигателя и приборов электро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очность регулировки узлов, систем и механизмов двигателя и приборов электрооборудов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ледовательность выполнения технологических опера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и 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струк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на учебную практи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WordArt 50"/>
          <p:cNvSpPr txBox="1"/>
          <p:nvPr/>
        </p:nvSpPr>
        <p:spPr>
          <a:xfrm>
            <a:off x="8556480" y="36576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24"/>
          <p:cNvSpPr txBox="1"/>
          <p:nvPr/>
        </p:nvSpPr>
        <p:spPr>
          <a:xfrm>
            <a:off x="2771640" y="30718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24"/>
          <p:cNvSpPr txBox="1"/>
          <p:nvPr/>
        </p:nvSpPr>
        <p:spPr>
          <a:xfrm>
            <a:off x="5214960" y="528624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50"/>
          <p:cNvSpPr txBox="1"/>
          <p:nvPr/>
        </p:nvSpPr>
        <p:spPr>
          <a:xfrm>
            <a:off x="8458200" y="4964040"/>
            <a:ext cx="25416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0403 Судовождени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 и эксплуатация суд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197000"/>
          <a:ext cx="8929800" cy="5486400"/>
        </p:xfrm>
        <a:graphic>
          <a:graphicData uri="http://schemas.openxmlformats.org/drawingml/2006/table">
            <a:tbl>
              <a:tblPr/>
              <a:tblGrid>
                <a:gridCol w="2382840"/>
                <a:gridCol w="3954240"/>
                <a:gridCol w="25927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ть и осуществлять переход в точку назначения, определять местоположение суд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графика движения из точки отправления в точку назначения в соответствии с правилами пла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перехода в соответствии с графиком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ладывать путь судна с учетом всех необходимых поправок (…)  с точ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и грамотность оформления графической прокл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ное  определение места положения судна с точностью до 1 м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е определение места положения судна с точностью до 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выполнением задания на производственной прак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о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ценивание выполнения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WordArt 50"/>
          <p:cNvSpPr txBox="1"/>
          <p:nvPr/>
        </p:nvSpPr>
        <p:spPr>
          <a:xfrm>
            <a:off x="2301840" y="414972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50"/>
          <p:cNvSpPr txBox="1"/>
          <p:nvPr/>
        </p:nvSpPr>
        <p:spPr>
          <a:xfrm>
            <a:off x="8604360" y="2857680"/>
            <a:ext cx="2538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24"/>
          <p:cNvSpPr txBox="1"/>
          <p:nvPr/>
        </p:nvSpPr>
        <p:spPr>
          <a:xfrm>
            <a:off x="8244000" y="40053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50"/>
          <p:cNvSpPr txBox="1"/>
          <p:nvPr/>
        </p:nvSpPr>
        <p:spPr>
          <a:xfrm>
            <a:off x="8604360" y="473076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25"/>
          <p:cNvSpPr txBox="1"/>
          <p:nvPr/>
        </p:nvSpPr>
        <p:spPr>
          <a:xfrm>
            <a:off x="7812000" y="617076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0908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1022 Монтаж и техническая эксплуатация холодильно-компрессорных машин и установок (по отраслям)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ение процесса по монтажу, технической эксплуатации и обслуживанию холодильно-компрессорных машин и установок (по отрасл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8000" y="1557360"/>
          <a:ext cx="9036000" cy="5378400"/>
        </p:xfrm>
        <a:graphic>
          <a:graphicData uri="http://schemas.openxmlformats.org/drawingml/2006/table">
            <a:tbl>
              <a:tblPr/>
              <a:tblGrid>
                <a:gridCol w="2668680"/>
                <a:gridCol w="3841560"/>
                <a:gridCol w="252576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наруживать неисправную работу холодильного оборудования и принимать меры для устранения и предупреждения отказов и ава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очность и скорость чтения чертеже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ыполнение ремонта с применением новых технолог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ое практическое задание с постановкой проблемной ситу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WordArt 50"/>
          <p:cNvSpPr txBox="1"/>
          <p:nvPr/>
        </p:nvSpPr>
        <p:spPr>
          <a:xfrm>
            <a:off x="5500800" y="542916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28"/>
          <p:cNvSpPr txBox="1"/>
          <p:nvPr/>
        </p:nvSpPr>
        <p:spPr>
          <a:xfrm>
            <a:off x="3000240" y="43578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50"/>
          <p:cNvSpPr txBox="1"/>
          <p:nvPr/>
        </p:nvSpPr>
        <p:spPr>
          <a:xfrm>
            <a:off x="8459640" y="596412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0601 Техническое обслуживание и ремонт автомобильного транспорта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ческое обслуживание и ремонт авто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700280"/>
          <a:ext cx="8748720" cy="489096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атывать технологические процессы ремонта узлов и дета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ать и осуществить  технологический процесс технического обслуживания и ремонта автотранспо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ние курсовой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WordArt 28"/>
          <p:cNvSpPr txBox="1"/>
          <p:nvPr/>
        </p:nvSpPr>
        <p:spPr>
          <a:xfrm>
            <a:off x="5143680" y="47149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0"/>
          <p:cNvSpPr txBox="1"/>
          <p:nvPr/>
        </p:nvSpPr>
        <p:spPr>
          <a:xfrm>
            <a:off x="7858080" y="43578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1031 Монтаж и техническая эксплуатация промышленного оборудования (по отраслям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и проведение монтажа и ремонта промышленного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9280" y="1700280"/>
          <a:ext cx="8748720" cy="489096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91600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ь работами, связанными с применением грузоподъёмных механизмов, при монтаже и ремонте промышленного обору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грузоподъемных механизмов организована и проводится в соответствии с нормативами (ГОСТ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деятельностью обучающихся на прак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й или производственн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WordArt 24"/>
          <p:cNvSpPr txBox="1"/>
          <p:nvPr/>
        </p:nvSpPr>
        <p:spPr>
          <a:xfrm>
            <a:off x="5148360" y="59500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4"/>
          <p:cNvSpPr txBox="1"/>
          <p:nvPr/>
        </p:nvSpPr>
        <p:spPr>
          <a:xfrm>
            <a:off x="8101080" y="49449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50"/>
          <p:cNvSpPr txBox="1"/>
          <p:nvPr/>
        </p:nvSpPr>
        <p:spPr>
          <a:xfrm>
            <a:off x="8566200" y="562752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0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113 Компьютерные системы и комплексы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цифров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50920" y="1700280"/>
          <a:ext cx="8748720" cy="495144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показатели надежности и качества проектируемых цифровых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качества и надежности цифровых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курсового проек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28"/>
          <p:cNvSpPr txBox="1"/>
          <p:nvPr/>
        </p:nvSpPr>
        <p:spPr>
          <a:xfrm>
            <a:off x="4859280" y="5805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50"/>
          <p:cNvSpPr txBox="1"/>
          <p:nvPr/>
        </p:nvSpPr>
        <p:spPr>
          <a:xfrm>
            <a:off x="8028000" y="393372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103.02 МАСТЕР ПО ОБРАБОТКЕ ЦИФРОВОЙ ИНФОРМАЦИИ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вод и обработка цифр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0920" y="1285920"/>
          <a:ext cx="8748720" cy="537840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вертировать файлы с цифровой информацией в различные форм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оптимального способ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вертирования файлов с цифровой информацией в различные форма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конвертирования файлов с цифровой информацией в различные фор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 рамках текущего контроля на практических занят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ыполнения индивидуальных домашних зад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 рамках текущего контроля в ходе проведения учебной и производственной практ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 рамках зачетных мероприятий по моду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WordArt 50"/>
          <p:cNvSpPr txBox="1"/>
          <p:nvPr/>
        </p:nvSpPr>
        <p:spPr>
          <a:xfrm>
            <a:off x="8572680" y="371484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5286240" y="40006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24"/>
          <p:cNvSpPr txBox="1"/>
          <p:nvPr/>
        </p:nvSpPr>
        <p:spPr>
          <a:xfrm>
            <a:off x="5286240" y="566568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234936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чить и лечить 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может кажд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401 Туризм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Предоставление турагентских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1700280"/>
          <a:ext cx="8497800" cy="452448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ть и анализировать запросы потребителя и возможности их реал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выбираемого туристского продукта запросам потреб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ое оценивание потребностей потребителя работодател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WordArt 24"/>
          <p:cNvSpPr txBox="1"/>
          <p:nvPr/>
        </p:nvSpPr>
        <p:spPr>
          <a:xfrm>
            <a:off x="5148360" y="4941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524720" y="5877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0146 Преподавание в начальных классах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подавание по программам начально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5280" y="1700280"/>
          <a:ext cx="8497800" cy="465912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цели и задачи, планировать у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рамотная формулировка цели и задач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урока соответствует заявленным целям и задач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практической рабо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WordArt 24"/>
          <p:cNvSpPr txBox="1"/>
          <p:nvPr/>
        </p:nvSpPr>
        <p:spPr>
          <a:xfrm>
            <a:off x="5292720" y="48690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7786800" y="47862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WordArt 29"/>
          <p:cNvSpPr txBox="1"/>
          <p:nvPr/>
        </p:nvSpPr>
        <p:spPr>
          <a:xfrm>
            <a:off x="5526000" y="371628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0146 Преподавание в начальных классах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подавание по программам начально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1700280"/>
          <a:ext cx="8497800" cy="498168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цели и задачи, планировать у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Цели и задачи урока определены  с учетом учебного предмета, особенностей возраста, класса и отдельных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рок спланирован с учетом учебного предмета, особенностей возраста, класса и отдельных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ое письменное задание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плана-конспекта урока по всем учебным дисциплинам начальной школы с учетом особенностей возраста, класса и отдельных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WordArt 24"/>
          <p:cNvSpPr txBox="1"/>
          <p:nvPr/>
        </p:nvSpPr>
        <p:spPr>
          <a:xfrm>
            <a:off x="521964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4"/>
          <p:cNvSpPr txBox="1"/>
          <p:nvPr/>
        </p:nvSpPr>
        <p:spPr>
          <a:xfrm>
            <a:off x="5219640" y="59500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9"/>
          <p:cNvSpPr txBox="1"/>
          <p:nvPr/>
        </p:nvSpPr>
        <p:spPr>
          <a:xfrm>
            <a:off x="8532720" y="42228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50144 Дошкольное образование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мероприятий, направленных на укрепление здоровья ребенка и его физ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1700280"/>
          <a:ext cx="8497800" cy="4890960"/>
        </p:xfrm>
        <a:graphic>
          <a:graphicData uri="http://schemas.openxmlformats.org/drawingml/2006/table">
            <a:tbl>
              <a:tblPr/>
              <a:tblGrid>
                <a:gridCol w="2832120"/>
                <a:gridCol w="3144960"/>
                <a:gridCol w="252072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мероприятия по физическому воспитанию в процессе выполнения двигательного реж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 по физическому воспитанию в процессе выполнения двигательного режима проводятся в соответствии с требованиями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выполнения заданий пр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WordArt 24"/>
          <p:cNvSpPr txBox="1"/>
          <p:nvPr/>
        </p:nvSpPr>
        <p:spPr>
          <a:xfrm>
            <a:off x="5508720" y="365904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9"/>
          <p:cNvSpPr txBox="1"/>
          <p:nvPr/>
        </p:nvSpPr>
        <p:spPr>
          <a:xfrm>
            <a:off x="8062920" y="364968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60501 Сестринское дел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казание доврачебной медицинской помощи при неотложных и экстремальных состоя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06200" y="1413000"/>
          <a:ext cx="8929800" cy="5502240"/>
        </p:xfrm>
        <a:graphic>
          <a:graphicData uri="http://schemas.openxmlformats.org/drawingml/2006/table">
            <a:tbl>
              <a:tblPr/>
              <a:tblGrid>
                <a:gridCol w="1785960"/>
                <a:gridCol w="4695840"/>
                <a:gridCol w="2448000"/>
              </a:tblGrid>
              <a:tr h="131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2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ть доврачебную помощь при неотложных состояниях и травм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диагност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ичины, стадии и клинические проявления терминальных состоя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декватную неотложную доврачебную помощь в соответствии с алгоритмами оказания мед. помощи при неотложных состояниях и физическим состоянием пациен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естринские манипуляции в соответствии со стандартами деятельности мед.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кспертное наблюдение в ход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енн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акт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кспертное наблюдение в ход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енн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акт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WordArt 18"/>
          <p:cNvSpPr txBox="1"/>
          <p:nvPr/>
        </p:nvSpPr>
        <p:spPr>
          <a:xfrm>
            <a:off x="5697360" y="2259000"/>
            <a:ext cx="72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49"/>
          <p:cNvSpPr txBox="1"/>
          <p:nvPr/>
        </p:nvSpPr>
        <p:spPr>
          <a:xfrm>
            <a:off x="8244000" y="2565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50"/>
          <p:cNvSpPr txBox="1"/>
          <p:nvPr/>
        </p:nvSpPr>
        <p:spPr>
          <a:xfrm>
            <a:off x="8529480" y="408456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51"/>
          <p:cNvSpPr txBox="1"/>
          <p:nvPr/>
        </p:nvSpPr>
        <p:spPr>
          <a:xfrm>
            <a:off x="8529480" y="563076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60501 Сестринское дел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казание доврачебной медицинской помощи при неотложных и экстремальных состоя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200" y="1413000"/>
          <a:ext cx="8929800" cy="5499000"/>
        </p:xfrm>
        <a:graphic>
          <a:graphicData uri="http://schemas.openxmlformats.org/drawingml/2006/table">
            <a:tbl>
              <a:tblPr/>
              <a:tblGrid>
                <a:gridCol w="2305080"/>
                <a:gridCol w="4321440"/>
                <a:gridCol w="23032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оказании медицинской помощи при чрезвычайных ситуац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ов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составе сортировочной бригады в соответствии с правилами ГО Ч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екватно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ыполнение своих обязанностей в работе лечебно-профилактического учреждения в условиях чрезвычайных ситуа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ая иг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WordArt 21"/>
          <p:cNvSpPr txBox="1"/>
          <p:nvPr/>
        </p:nvSpPr>
        <p:spPr>
          <a:xfrm>
            <a:off x="6300720" y="458136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28"/>
          <p:cNvSpPr txBox="1"/>
          <p:nvPr/>
        </p:nvSpPr>
        <p:spPr>
          <a:xfrm>
            <a:off x="7740720" y="3284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29"/>
          <p:cNvSpPr txBox="1"/>
          <p:nvPr/>
        </p:nvSpPr>
        <p:spPr>
          <a:xfrm>
            <a:off x="5867280" y="2852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60501 Сестринское дел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казание доврачебной медицинской помощи при неотложных и экстремальных состоя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06200" y="1413000"/>
          <a:ext cx="8929800" cy="5167080"/>
        </p:xfrm>
        <a:graphic>
          <a:graphicData uri="http://schemas.openxmlformats.org/drawingml/2006/table">
            <a:tbl>
              <a:tblPr/>
              <a:tblGrid>
                <a:gridCol w="1944720"/>
                <a:gridCol w="4908600"/>
                <a:gridCol w="2076480"/>
              </a:tblGrid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оказании медицинской помощи при чрезвычайных ситуац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ц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характеризовать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декватную помощь при воздействии на организм токсических и ядовитых веществ самостоятельно и в бриг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ффективные мероприятия по защите пациентов от негативных воздействий при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ешение задач в тестов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WordArt 20"/>
          <p:cNvSpPr txBox="1"/>
          <p:nvPr/>
        </p:nvSpPr>
        <p:spPr>
          <a:xfrm>
            <a:off x="6588000" y="3860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21"/>
          <p:cNvSpPr txBox="1"/>
          <p:nvPr/>
        </p:nvSpPr>
        <p:spPr>
          <a:xfrm>
            <a:off x="6588000" y="5877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28"/>
          <p:cNvSpPr txBox="1"/>
          <p:nvPr/>
        </p:nvSpPr>
        <p:spPr>
          <a:xfrm>
            <a:off x="5867280" y="278136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29"/>
          <p:cNvSpPr txBox="1"/>
          <p:nvPr/>
        </p:nvSpPr>
        <p:spPr>
          <a:xfrm>
            <a:off x="8388360" y="2852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30"/>
          <p:cNvSpPr txBox="1"/>
          <p:nvPr/>
        </p:nvSpPr>
        <p:spPr>
          <a:xfrm>
            <a:off x="7885080" y="4797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401 Туризм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Предоставление турагентских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4920" y="1557360"/>
          <a:ext cx="9144000" cy="5183280"/>
        </p:xfrm>
        <a:graphic>
          <a:graphicData uri="http://schemas.openxmlformats.org/drawingml/2006/table">
            <a:tbl>
              <a:tblPr/>
              <a:tblGrid>
                <a:gridCol w="2557440"/>
                <a:gridCol w="3886200"/>
                <a:gridCol w="2700360"/>
              </a:tblGrid>
              <a:tr h="17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работу по оказанию визовой поддержки потребите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потребителю полной и достоверной информаций о требованиях консульств зарубежных стран к пакету документов, предоставляемых для оформления ви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по производственной прак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WordArt 19"/>
          <p:cNvSpPr txBox="1"/>
          <p:nvPr/>
        </p:nvSpPr>
        <p:spPr>
          <a:xfrm>
            <a:off x="5219640" y="4221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7308720" y="4869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401 Туризм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Предоставление турагентских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1700280"/>
          <a:ext cx="8497800" cy="4610160"/>
        </p:xfrm>
        <a:graphic>
          <a:graphicData uri="http://schemas.openxmlformats.org/drawingml/2006/table">
            <a:tbl>
              <a:tblPr/>
              <a:tblGrid>
                <a:gridCol w="2521080"/>
                <a:gridCol w="3144600"/>
                <a:gridCol w="2832120"/>
              </a:tblGrid>
              <a:tr h="18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ять турпакет (турпутевки, ваучеры, страховые полис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ения турпакета в соответствии с установленными требовани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практической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выполнения п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WordArt 18"/>
          <p:cNvSpPr txBox="1"/>
          <p:nvPr/>
        </p:nvSpPr>
        <p:spPr>
          <a:xfrm>
            <a:off x="5148360" y="4149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22"/>
          <p:cNvSpPr txBox="1"/>
          <p:nvPr/>
        </p:nvSpPr>
        <p:spPr>
          <a:xfrm>
            <a:off x="8001000" y="5715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30912 Право и организация соцзащиты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еспечение реализации прав граждан в сфере пенсионного обеспечения и социальной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14280"/>
          <a:ext cx="9144000" cy="556596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профессиональное толкование  нормативных правовых актов для реализации прав граждан в сфере пенсионного обеспечения и социальной защ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just"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 выбора нормативных правовых актов в сфере пенсионного обеспечения и социальной защи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содержанием нормативно-правовой документации в сфере пенсионного обеспечения и социальной защи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и скорость чтения и трактовки нормативно-правовой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 «Нормативно-правовые акт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WordArt 19"/>
          <p:cNvSpPr txBox="1"/>
          <p:nvPr/>
        </p:nvSpPr>
        <p:spPr>
          <a:xfrm>
            <a:off x="2714760" y="24289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2428920" y="500076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19"/>
          <p:cNvSpPr txBox="1"/>
          <p:nvPr/>
        </p:nvSpPr>
        <p:spPr>
          <a:xfrm>
            <a:off x="2286000" y="628668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19"/>
          <p:cNvSpPr txBox="1"/>
          <p:nvPr/>
        </p:nvSpPr>
        <p:spPr>
          <a:xfrm>
            <a:off x="8116920" y="4572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30912 Право и организация соцзащиты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еспечение реализации прав граждан в сфере пенсионного обеспечения и социальной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8000" y="1214280"/>
          <a:ext cx="9036000" cy="5531040"/>
        </p:xfrm>
        <a:graphic>
          <a:graphicData uri="http://schemas.openxmlformats.org/drawingml/2006/table">
            <a:tbl>
              <a:tblPr/>
              <a:tblGrid>
                <a:gridCol w="2903400"/>
                <a:gridCol w="3576600"/>
                <a:gridCol w="2556000"/>
              </a:tblGrid>
              <a:tr h="187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профессиональное толкование  нормативных правовых актов для реализации прав граждан в сфере пенсионного обеспечения и социальной защ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аргументированность анализа действующего законодательства в сфере пенсионного обеспечения и социальной защит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нота, доступность и правильность толкования  нормативных правовых актов для реализации прав граждан в сфере пенсионного обеспечения и социальной защиты насе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изводстве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WordArt 19"/>
          <p:cNvSpPr txBox="1"/>
          <p:nvPr/>
        </p:nvSpPr>
        <p:spPr>
          <a:xfrm>
            <a:off x="7854840" y="492912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23"/>
          <p:cNvSpPr txBox="1"/>
          <p:nvPr/>
        </p:nvSpPr>
        <p:spPr>
          <a:xfrm>
            <a:off x="4786200" y="28576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23"/>
          <p:cNvSpPr txBox="1"/>
          <p:nvPr/>
        </p:nvSpPr>
        <p:spPr>
          <a:xfrm>
            <a:off x="5929200" y="464328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41"/>
          <p:cNvSpPr txBox="1"/>
          <p:nvPr/>
        </p:nvSpPr>
        <p:spPr>
          <a:xfrm>
            <a:off x="8628120" y="379404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637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еньги любят с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5:39:29Z</dcterms:created>
  <dc:creator>Куцына Елена Ивановна</dc:creator>
  <dc:description/>
  <dc:language>en-US</dc:language>
  <cp:lastModifiedBy>Пользователь</cp:lastModifiedBy>
  <dcterms:modified xsi:type="dcterms:W3CDTF">2013-11-27T05:17:12Z</dcterms:modified>
  <cp:revision>43</cp:revision>
  <dc:subject/>
  <dc:title>Обсуждение формулировок раздела  5</dc:title>
</cp:coreProperties>
</file>